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D84-8158-4F3F-B7D9-F7115F8E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B55-ED34-48DF-911A-A6F013EB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B02F-3E68-4AC8-B7E2-BA956872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F8F-C3CE-485A-94BD-73199E4F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8F2C-2CCE-4D56-90C8-F9BDFB3B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77C-44F6-40E9-85F0-E07FF29A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8C7-65BE-4181-BD6D-2C724608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DCE1-B1E4-4DA0-918B-B4D99BE2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D88B-DF93-4189-A874-6A5A79FE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3AE9-4EBB-41BF-9332-E844EC38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CF9-60ED-4D5D-866A-7CD0874E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F1C-03A0-453D-9750-772B020E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C8B1-6962-4FAF-8838-02F04185008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1B4E-992B-4DCA-8508-82BAF6B7B2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3352680" y="228600"/>
            <a:ext cx="2743200" cy="6714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8"/>
          <p:cNvGrpSpPr/>
          <p:nvPr/>
        </p:nvGrpSpPr>
        <p:grpSpPr>
          <a:xfrm>
            <a:off x="2727360" y="6019920"/>
            <a:ext cx="3978360" cy="731880"/>
            <a:chOff x="2727360" y="6019920"/>
            <a:chExt cx="3978360" cy="731880"/>
          </a:xfrm>
        </p:grpSpPr>
        <p:pic>
          <p:nvPicPr>
            <p:cNvPr id="43" name="Picture 2" descr="C:\Users\odhiamba\Documents\1.Templates\Logo\Short-GEF logo colored NOTAG transparent.png"/>
            <p:cNvPicPr/>
            <p:nvPr/>
          </p:nvPicPr>
          <p:blipFill>
            <a:blip r:embed="rId3"/>
            <a:stretch/>
          </p:blipFill>
          <p:spPr>
            <a:xfrm>
              <a:off x="2727360" y="6019920"/>
              <a:ext cx="62568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3" descr="C:\Users\odhiamba\Documents\1.Templates\Logo\UNEPBlue logo.jpg"/>
            <p:cNvPicPr/>
            <p:nvPr/>
          </p:nvPicPr>
          <p:blipFill>
            <a:blip r:embed="rId4"/>
            <a:stretch/>
          </p:blipFill>
          <p:spPr>
            <a:xfrm>
              <a:off x="3508560" y="6019920"/>
              <a:ext cx="6822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4" descr="C:\Users\odhiamba\Documents\1.Templates\Logo\Logo_UNIDO.svg.png"/>
            <p:cNvPicPr/>
            <p:nvPr/>
          </p:nvPicPr>
          <p:blipFill>
            <a:blip r:embed="rId5"/>
            <a:stretch/>
          </p:blipFill>
          <p:spPr>
            <a:xfrm>
              <a:off x="4434480" y="6019920"/>
              <a:ext cx="827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5" descr="C:\Users\odhiamba\Documents\1.Templates\Logo\UNWTO Logo.jpg"/>
            <p:cNvPicPr/>
            <p:nvPr/>
          </p:nvPicPr>
          <p:blipFill>
            <a:blip r:embed="rId6"/>
            <a:stretch/>
          </p:blipFill>
          <p:spPr>
            <a:xfrm>
              <a:off x="5349240" y="6019920"/>
              <a:ext cx="1356480" cy="73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L.Bernaudat@unido.org" TargetMode="External"/><Relationship Id="rId2" Type="http://schemas.openxmlformats.org/officeDocument/2006/relationships/hyperlink" Target="mailto:M.Pinto-Rodrigues@unido.org" TargetMode="External"/><Relationship Id="rId3" Type="http://schemas.openxmlformats.org/officeDocument/2006/relationships/hyperlink" Target="mailto:H.Garcia@unido.org" TargetMode="External"/><Relationship Id="rId4" Type="http://schemas.openxmlformats.org/officeDocument/2006/relationships/hyperlink" Target="mailto:Y.Cachu@unido.org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th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STEERING COMMITTEE MEETING</a:t>
            </a:r>
            <a:br>
              <a:rPr sz="2400"/>
            </a:br>
            <a:r>
              <a:rPr b="1" lang="de-AT" sz="1800" spc="-1" strike="noStrike">
                <a:solidFill>
                  <a:srgbClr val="009900"/>
                </a:solidFill>
                <a:latin typeface="Arial"/>
                <a:ea typeface="Arial"/>
              </a:rPr>
              <a:t>Bagamoyo, Tanzania </a:t>
            </a:r>
            <a:br>
              <a:rPr sz="1800"/>
            </a:br>
            <a:r>
              <a:rPr b="1" lang="de-AT" sz="1800" spc="-1" strike="noStrike">
                <a:solidFill>
                  <a:srgbClr val="009900"/>
                </a:solidFill>
                <a:latin typeface="Arial"/>
                <a:ea typeface="Arial"/>
              </a:rPr>
              <a:t>24-27 </a:t>
            </a:r>
            <a:r>
              <a:rPr b="1" lang="en-GB" sz="1800" spc="-1" strike="noStrike">
                <a:solidFill>
                  <a:srgbClr val="009900"/>
                </a:solidFill>
                <a:latin typeface="Arial"/>
                <a:ea typeface="Arial"/>
              </a:rPr>
              <a:t>September, 2013</a:t>
            </a:r>
            <a:br>
              <a:rPr sz="2400"/>
            </a:br>
            <a:br>
              <a:rPr sz="2400"/>
            </a:br>
            <a:r>
              <a:rPr b="1" lang="en-GB" sz="2800" spc="-1" strike="noStrike">
                <a:solidFill>
                  <a:srgbClr val="0033cc"/>
                </a:solidFill>
                <a:latin typeface="Arial"/>
                <a:ea typeface="Arial"/>
              </a:rPr>
              <a:t>EMS Thematic Component </a:t>
            </a:r>
            <a:br>
              <a:rPr sz="2800"/>
            </a:br>
            <a:r>
              <a:rPr b="1" lang="en-GB" sz="2800" spc="-1" strike="noStrike">
                <a:solidFill>
                  <a:srgbClr val="009900"/>
                </a:solidFill>
                <a:latin typeface="Arial"/>
                <a:ea typeface="Arial"/>
              </a:rPr>
              <a:t>UNIDO TEST Methodology Implementation</a:t>
            </a:r>
            <a:br>
              <a:rPr sz="2800"/>
            </a:br>
            <a:r>
              <a:rPr b="1" lang="en-GB" sz="2800" spc="-1" strike="noStrike">
                <a:solidFill>
                  <a:srgbClr val="0033cc"/>
                </a:solidFill>
                <a:latin typeface="Arial"/>
                <a:ea typeface="Arial"/>
              </a:rPr>
              <a:t>OVERVIEW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33cc"/>
                </a:solidFill>
                <a:latin typeface="Arial"/>
                <a:ea typeface="Arial"/>
              </a:rPr>
              <a:t>FOR</a:t>
            </a:r>
            <a:br>
              <a:rPr sz="2800"/>
            </a:b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Kenya, Mozambique, Senegal, Tanzania</a:t>
            </a:r>
            <a:br>
              <a:rPr sz="16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(SCM Day 2: 25 September 2013)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Content Placeholder 3" descr="COAST Logframe 2012.jpg"/>
          <p:cNvPicPr/>
          <p:nvPr/>
        </p:nvPicPr>
        <p:blipFill>
          <a:blip r:embed="rId1"/>
          <a:stretch/>
        </p:blipFill>
        <p:spPr>
          <a:xfrm>
            <a:off x="914400" y="152280"/>
            <a:ext cx="6730920" cy="66294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88" name="Oval 4"/>
          <p:cNvSpPr/>
          <p:nvPr/>
        </p:nvSpPr>
        <p:spPr>
          <a:xfrm>
            <a:off x="3048120" y="2666880"/>
            <a:ext cx="2438280" cy="28958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182880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09480" y="2209680"/>
            <a:ext cx="8275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Watamu, </a:t>
            </a:r>
            <a:r>
              <a:rPr b="1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   </a:t>
            </a: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Inhambane, </a:t>
            </a:r>
            <a:r>
              <a:rPr b="1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Mozamb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   </a:t>
            </a: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Saly, </a:t>
            </a:r>
            <a:r>
              <a:rPr b="1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Sen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Bagamoyo, </a:t>
            </a:r>
            <a:r>
              <a:rPr b="1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Tan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8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990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33cc"/>
                </a:solidFill>
                <a:latin typeface="Arial"/>
                <a:ea typeface="Arial"/>
              </a:rPr>
              <a:t>COAST Project </a:t>
            </a:r>
            <a:br>
              <a:rPr sz="2400"/>
            </a:br>
            <a:r>
              <a:rPr b="1" lang="de-AT" sz="2400" spc="-1" strike="noStrike">
                <a:solidFill>
                  <a:srgbClr val="0033cc"/>
                </a:solidFill>
                <a:latin typeface="Arial"/>
                <a:ea typeface="Arial"/>
              </a:rPr>
              <a:t>EMS Thematic Component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0880" y="1676520"/>
            <a:ext cx="85042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EMS Thematic Area applies the UNIDO Transfer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Environmentally Sound Technology (TEST) Methodology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EST training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d across the EMS countries i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ovember/December 201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hotel sector, DPC and lo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e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The TEST Methodology was developed by UNIDO in the year 2000 and has since been successfully applied to developing and transition economy countries all around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imed at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improving Environmental Management and Competitivenes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companies &amp; industries in developing and transition econom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09480" y="1600200"/>
            <a:ext cx="8275680" cy="16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10960" y="990720"/>
            <a:ext cx="87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Overview 5 TEST Management Tools being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04920" y="1447920"/>
            <a:ext cx="8610480" cy="47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EST consists in introducing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5 Management Tools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at company/industry level with the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aim to change the management practices in a holistic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manner in orde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to ensure the sustainable introduction of green pract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 CPA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ner Production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 EMA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vironmental Management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 EM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vironmental Managemen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  EST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vironmentally Sou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  CSR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ocial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09480" y="1600200"/>
            <a:ext cx="8275680" cy="16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10960" y="990720"/>
            <a:ext cx="872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Overview of application of 5 TEST Management Tools across the 4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04920" y="1828800"/>
            <a:ext cx="86104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4920" y="1731960"/>
          <a:ext cx="8616960" cy="4135320"/>
        </p:xfrm>
        <a:graphic>
          <a:graphicData uri="http://schemas.openxmlformats.org/drawingml/2006/table">
            <a:tbl>
              <a:tblPr/>
              <a:tblGrid>
                <a:gridCol w="1447560"/>
                <a:gridCol w="914400"/>
                <a:gridCol w="1447920"/>
                <a:gridCol w="1295280"/>
                <a:gridCol w="1143000"/>
                <a:gridCol w="2368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ST T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ZAMB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NZ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N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TPU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1</a:t>
                      </a:r>
                      <a:r>
                        <a:rPr b="0" lang="de-AT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.</a:t>
                      </a: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C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C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vidual Expe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“</a:t>
                      </a: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Cost  and Low Cost“ recommend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3.</a:t>
                      </a:r>
                      <a:r>
                        <a:rPr b="1" lang="de-AT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systems of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5.</a:t>
                      </a:r>
                      <a:r>
                        <a:rPr b="1" lang="de-AT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d internal and external C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2.</a:t>
                      </a:r>
                      <a:r>
                        <a:rPr b="1" lang="de-AT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DO expe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duction of was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4.</a:t>
                      </a:r>
                      <a:r>
                        <a:rPr b="1" lang="de-AT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DO/ Private-Public Partnershi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and community benef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 spd="slow" advTm="10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106668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Example from Brazil to demonstrate how we expect results to be portrayed at the end of the TEST implementation in 2014</a:t>
            </a:r>
            <a:br>
              <a:rPr sz="2000"/>
            </a:b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ropical Hotel Tambau, Joao Pessoa, Paraiba</a:t>
            </a:r>
            <a:br>
              <a:rPr sz="1800"/>
            </a:b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73 guest rooms, convention center, meeting ro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280" y="2438280"/>
          <a:ext cx="8763120" cy="4343400"/>
        </p:xfrm>
        <a:graphic>
          <a:graphicData uri="http://schemas.openxmlformats.org/drawingml/2006/table">
            <a:tbl>
              <a:tblPr/>
              <a:tblGrid>
                <a:gridCol w="1849680"/>
                <a:gridCol w="1606320"/>
                <a:gridCol w="1463760"/>
                <a:gridCol w="1460520"/>
                <a:gridCol w="238284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 Op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r Sav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D/ye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back Peri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al Benef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materials, energ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it/ye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ation of water flow reducers in the shower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9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5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00m3 water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ation of low-flow water tap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,0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5,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 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16 m3 water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</a:tr>
              <a:tr h="13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ation of energy saving devices in the room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4,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1,4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 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272 kWh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he entire hotel electricity consumption per year is 2.052.280 k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</a:tr>
            </a:tbl>
          </a:graphicData>
        </a:graphic>
      </p:graphicFrame>
    </p:spTree>
  </p:cSld>
  <p:transition spd="slow" advTm="10000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80880" y="1905120"/>
            <a:ext cx="85042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Financial Saving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benefits: Contributes to lower pollutions and to saving water, waste, energy and non renewable resour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 tool to assist managers to be more strategic in planning and operation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 control costs and manage risks through the identification of liabilities and weakness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Lower utility costs by assessing the cost savings by BAP/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ment in the image of the Hotel and its competitivene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Improvement in Staff Mor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ts for the local commun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Keep ahead of impending legislations and other regulations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ummary  on BENEFITs 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o implementing TEST in the Hotel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57200" y="182880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ubtitle 4"/>
          <p:cNvSpPr/>
          <p:nvPr/>
        </p:nvSpPr>
        <p:spPr>
          <a:xfrm>
            <a:off x="324000" y="2362320"/>
            <a:ext cx="835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IDO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TEST TRAINING TEA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Mr. Ludovic Bernau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L.Bernaudat@unido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Ms. Marla McCarroll Pinto Rodrig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M.Pinto-Rodrigues@unido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Mr. Harvey Ga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.Garcia@unido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Ms. Yolanda Cachú (EMA expe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Y.Cachu@unido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5"/>
          <a:stretch/>
        </p:blipFill>
        <p:spPr>
          <a:xfrm>
            <a:off x="1676520" y="1981080"/>
            <a:ext cx="2743200" cy="671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2:45:04Z</dcterms:created>
  <dc:creator>Gibbon 2011</dc:creator>
  <dc:description/>
  <dc:language>en-US</dc:language>
  <cp:lastModifiedBy>User</cp:lastModifiedBy>
  <dcterms:modified xsi:type="dcterms:W3CDTF">2013-09-23T12:43:25Z</dcterms:modified>
  <cp:revision>512</cp:revision>
  <dc:subject/>
  <dc:title>Slide 1</dc:title>
</cp:coreProperties>
</file>