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66E9-5D05-4456-A80A-2A9B39A88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5656-16A2-4CEB-81FD-34600D9C0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7EFD-D473-4131-92D4-DA276E80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9772-CBBD-48F0-A751-EFC51200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C17-10AF-4F00-BE09-AC1EE5E7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1742-2025-4A1F-B57A-C55C160A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34A1-4A61-4083-B73C-CD54B3CE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E9FF-DE95-4D27-9F67-F9972005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45C3-BFA4-4199-A324-E69E5037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F6A7-CCCB-4C37-9FDE-6C72316D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D357-419A-455E-8111-28314C5D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B66B-2C8C-4666-9F71-9A66BB1A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6412-158F-4526-BB9D-55C9C665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941B-64B0-47D2-8D3D-39EFCE5C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CC34-9D2E-40E5-B3D3-848BEEDF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E7BE-71DB-4BE2-95D1-1A0780FA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AEEA-3EF8-4CD6-8556-0F676754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8383-4288-4EAB-A72B-F380B730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2B75-92E8-43A2-97F8-29B1C266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AB48D-8E13-4021-A965-0E8517E0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DF6FB-2F85-43D0-A406-A4E3C97E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24832-7E90-46B3-B47B-4388ED3D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B7CFE-AA0C-400F-A4EF-E9B0D9D1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B3841-27FB-4CDF-AD59-0AA621E1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916F-F4F0-45C1-B75E-19EF490C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009B8-A3C9-4D8A-9170-89B25A60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46BE7-235F-424D-ABFE-45222806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2870E-7FCD-41C1-996F-ECF4223B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339A6-5C7D-4B34-A58E-3333B0C7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77747-6BB4-40BA-B942-F5C32768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D98B0-70D5-4A18-9653-573F35A1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B1E3B-7383-4B10-84E7-5568BF47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05DB0-1CD7-4B3B-82A5-4E7F9844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5A6E9-AFC2-4C40-BC5F-434F27B2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9227B-C88D-4496-A833-E0FB5607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645A-41A0-4192-AA0A-180EF1F3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76032-BCD7-4817-9AD0-B80F7808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502F7-A49B-4D3A-BA5C-5F58B0A6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05DF0-F637-4187-B9E0-59F33F19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0C6B0-03EA-4306-94BA-774331F6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0D37D-F8DA-44D9-B62F-72C2FB0A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04E42-7027-41FB-B39F-D344B26B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320F9-66CC-4E72-89A1-FB4F5F12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14339-EE2A-4B58-B77C-D4F1E3CA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D7103-2619-45BB-A64D-BFB3B6D6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1C1E4-4EED-4F90-AC71-8F4BB3C3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E435-1554-4788-B8F6-A7B5A799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D5541-0B37-4460-81C7-29E344BB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AB439-A5B7-4F3A-98F1-3D5C9E41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C76BA-5A01-4792-BB26-B308F553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DE11F-69CD-4F73-876E-F39EDEE0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574E3-EE93-419D-9FDE-5AF564E6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5437A-8EFB-4E50-8ECB-DE3940DB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733FB-3D1C-4F6C-91C3-2A239059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C0F69-2413-48C5-A18C-A6640E21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65D92-DA8E-4D0F-AD18-A70939ED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05D17-F583-481D-96F4-17AD711E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B97D-55E4-4A43-A35C-1B212B17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76301-7E35-43B5-8498-12AA7809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1CB2D-E30F-4F8B-B578-06A06D8F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465DB-114F-4EB3-80E5-D4017671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EF4D0-E0EB-4283-BD3F-62941099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3F513-DA8C-4D64-A835-02620AC0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3FE12-D329-4431-8E05-53DE8D75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7E4D2-7D93-4EAD-921A-9321D2FF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23C9E-4D0C-4F43-9F58-D1187F80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556D0-20D5-4D31-B5DD-D4F2E974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E6FC0-DA62-4FAD-91A8-657BFE49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32B-531C-4117-97A2-A16852E4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085C7-F649-4EB7-86D9-E4769245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49C79-DE22-4711-A278-34B14122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1D779-A140-4C97-8FA6-DA2517F7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DD498-CAAE-4835-9AF9-71E3E2C5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72A0A-EC69-4056-A919-6606B432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DD8DC-E617-45C9-B8D9-CAAEB419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5A39B-BA43-4669-851C-85D1D14B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FCA9A-3FCF-4C6F-8E7A-3F1CDF34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E6886-34B3-4626-988F-7B1FBABF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55B5F-D27F-4582-92AC-5FAD30F6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A995-59A5-48F8-9318-2AE1F6AA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70098-70CD-4B3F-990F-6F39CEC4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B47BA-971D-4E04-8C77-C440C401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BB442-365F-4BAE-BBDA-DF48D2B7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A3D92-47EF-4E6D-8918-70610400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6FCD9-0A46-4C0B-A42D-40F35C78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3085-4A5C-4EAE-BB5A-0C6AA1D7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67D8-A6CF-4E39-9C76-A23F34B21BC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DDDB-0E46-4344-B29B-F86AB655964E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0A97-C875-4D62-A948-CEA96A75CC1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7DBA-7562-4219-9D07-102C9A2A548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E8D6-2BEF-4CFE-865B-8AAA1998BF9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9C36-BFBB-4BB9-97B8-7A7C17C03CEA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4716-7BCD-464E-A4ED-086CB49B53A8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9040" y="3048120"/>
            <a:ext cx="8058240" cy="67608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609480" y="380880"/>
            <a:ext cx="80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841320" y="3736800"/>
            <a:ext cx="8058240" cy="90828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12" name="Picture 76" descr="GEF_Brand_Long"/>
            <p:cNvPicPr/>
            <p:nvPr/>
          </p:nvPicPr>
          <p:blipFill>
            <a:blip r:embed="rId3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3" descr=""/>
            <p:cNvPicPr/>
            <p:nvPr/>
          </p:nvPicPr>
          <p:blipFill>
            <a:blip r:embed="rId4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4" descr=""/>
          <p:cNvPicPr/>
          <p:nvPr/>
        </p:nvPicPr>
        <p:blipFill>
          <a:blip r:embed="rId5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UNWTO_e"/>
          <p:cNvPicPr/>
          <p:nvPr/>
        </p:nvPicPr>
        <p:blipFill>
          <a:blip r:embed="rId6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"/>
          <p:cNvPicPr/>
          <p:nvPr/>
        </p:nvPicPr>
        <p:blipFill>
          <a:blip r:embed="rId7"/>
          <a:stretch/>
        </p:blipFill>
        <p:spPr>
          <a:xfrm>
            <a:off x="990720" y="228600"/>
            <a:ext cx="716256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Fields surveys involving foot traffic count and catchment study to 3 in-demand/potential areas for eco-tourism enterprise establishment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entury Gothic"/>
              </a:rPr>
              <a:t>Results achieved so far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wareness in the three villages and 6 schools on the Project and tourism potential in their village has been rais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ositive reception of the project by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mulation of 6 Ecotourism clubs in 6 primary school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25 handcrafts have bee trained on Product improvement and business skil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mprovement of local food delivery services to tourist and visito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in Seaweed farming and fish processing practices (Processes and Business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Learning of Best practices on cultural tourism enterprise in Arusha (12 people benefited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26 tour guides are trained on basic environmental education to improve their working skill with environmental concern (Tour guides trainee formulated their club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of Public-Private Partnership in tourism industry . Bagamoyo DC&amp;TC,TCMP, tourist companies and Hotels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Recruitment of Tourism Officer in Bagamoyo. 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romotion of tourist attractions through Participation in a local tourism event (Karibu Travel tourism Fair-Arusha);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Aproximatelly15 acres of mangroves were replanted within project area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Establishment of 2 cultural tourism enterprise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21 people have been trained on Management of  business skills on tourism activities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Challenges encountered during implement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Large interested community to be trained with limited funds to suppor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ost of the challenges are internal which we are supposed to deal with ourselves (Bureaucratic procedures to handle request, transport facilities;  etc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68544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Recommendations for further activities to help increase socio-economic benefits from tourism in coastal destinations in the country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xtension of the project time frame will  bring more positive impacts to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 scaling of the project to other villages for widespread positive impact to the communi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re training is needed to unveil the tourism potentials in the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1680" cy="1809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Other stakeholders are needed to complement on capacitating people with resources (Loans, grants) to run small tourism busines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More funds to facilitate the established cultural tourism enterpris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Identification of new tourist product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384120" y="689040"/>
            <a:ext cx="8229600" cy="192096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38" name="Picture 76" descr="GEF_Brand_Long"/>
            <p:cNvPicPr/>
            <p:nvPr/>
          </p:nvPicPr>
          <p:blipFill>
            <a:blip r:embed="rId2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3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Picture 4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UNWTO_e"/>
          <p:cNvPicPr/>
          <p:nvPr/>
        </p:nvPicPr>
        <p:blipFill>
          <a:blip r:embed="rId5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698"/>
                </a:solidFill>
                <a:latin typeface="Century Gothic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The name of the project is SUSTAINABLE ECOTOURISM ENHANCEMENT FOR POVERTY ALLEVIATION AND BIODIVERSITY CONSERV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Century Gothic"/>
              </a:rPr>
              <a:t>The project is implemented in Bagamoyo Demosite at </a:t>
            </a:r>
            <a:r>
              <a:rPr b="1" lang="en-ZA" sz="3000" spc="-1" strike="noStrike">
                <a:solidFill>
                  <a:srgbClr val="000000"/>
                </a:solidFill>
                <a:latin typeface="Century Gothic"/>
              </a:rPr>
              <a:t>Dunda, Kaole and Mlingotini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457200"/>
            <a:ext cx="822960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otal Budget from COAST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:USD 50,000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he Project is Implemented by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Bagamoyo District Counci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698"/>
                </a:solidFill>
                <a:latin typeface="Century Gothic"/>
              </a:rPr>
              <a:t>PROJECT OBJECTIV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apacity building for local communities in sustainable marine &amp; coastal resource management for income Generation and improvement of livelihood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088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ACTIVITIES IN BRIEF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wareness campaigns in the project area (Kaole, Dunda, Mlingotini) involving members of the community  and other ecotourism stakeholders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ailor made trainings/skills development for tourism stakeholder groups (tour guides, handicraft producers, boat operators, food vendors /homestay providers, local performance entertainment group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8229600" cy="60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etting up of tourist information office,  promotional material development (brochures/flyers/websit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omotion and marketing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upport to environmental protection / conservation initiative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Facilitation of establishment of tourism stakeholder dialogue forum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 </a:t>
            </a: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EXPECTED OUTPU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community awareness on the potential of tourism and biodiversity conservation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income generation from activities and enhanced local entrepreneurship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service delivery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t arrivals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beach and marine environment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m stakeholders</a:t>
            </a:r>
            <a:r>
              <a:rPr b="0" lang="ja-JP" sz="28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collaboration (between District authority, local communities, private sector and NGO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698"/>
                </a:solidFill>
                <a:latin typeface="Century Gothic"/>
              </a:rPr>
              <a:t>PROJECT CURRENT STATUS AND OUTPU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workshops at the project area (Dunda, Kaole and Mlingotini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campaigns at schools in the project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for handcraft groups in quality improve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improvement in accommodation, hospitality, food safety, food provision servi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rkshop in marine products improvements &amp; hygiene, fishing/seaweed farming group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ourism enterprise coordinators’ cross learning visit to CTP enterpris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guiding, basic environmental education and interpretive skills for 12 guid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ake and place sign board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ssessment of areas for mangroves replanting with community members, community resource mapp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bilization of people and plant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95120" y="23184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articipation in a local tourism event (Karibu Travel tourism Fair-Arusha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anagement business skills training for tourism enterprise coordinators, cultural tour coordinators, food/home-stay providers, curio sellers, fishermen group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Development of brochures for promoting tourism in Bagamoyo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4:07:45Z</dcterms:created>
  <dc:creator>user</dc:creator>
  <dc:description/>
  <dc:language>en-US</dc:language>
  <cp:lastModifiedBy>UNWTO</cp:lastModifiedBy>
  <dcterms:modified xsi:type="dcterms:W3CDTF">2013-09-25T06:07:40Z</dcterms:modified>
  <cp:revision>92</cp:revision>
  <dc:subject/>
  <dc:title>Slide 1</dc:title>
</cp:coreProperties>
</file>