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22C7-1371-409B-AB08-F8FE515A6FA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D8AD-3C7C-4223-BC35-B84C9DAFCF4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8B02-4712-4587-9942-2B06D7F231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5750-6FAA-40B8-8EC2-204C494A40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535-879B-454E-A1A9-A3CDF70A70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99D-A74A-49AE-B344-46BEC0FD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D91-90B0-40E3-B069-3EFADE9F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271-D7C8-4C81-9605-49F78222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A8F-C457-4278-BB9B-F7417913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D81C-9F33-40C1-AE36-821B3245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A1A9-281B-45FF-88B0-CF9C79EF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C61-4E07-493D-A787-C9E310A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22093-207F-4789-9D9A-D2801A6F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8910-AD55-485E-BC3A-7DB7641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DCA-4A06-4FFA-98E8-E5C1DC8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ABB3-4887-4D59-90EF-B11CC579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1BE-D1B4-40F6-BDB3-123C6622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9E6-455E-4EED-BD32-4CA2DCF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756D-076F-491C-9554-27600BE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A52E-3137-4A36-BCB5-C01957ED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8618-8F8A-4E1A-8089-83B80941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1A95-8C60-4478-9CD4-33C21278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511-0A6A-4040-849F-723B4880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FE0-ED7D-49E3-8789-E244A2B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E12-4BC5-45E1-8533-7700C0E4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7B2-51F8-451A-80C8-810D6F8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896-2C27-4DD1-9DAC-1EA5C08F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D07-E3EC-45E8-807D-9F7EDE9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96D-A033-427E-8085-82190AD1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681-8137-4929-BBBE-A40A3B5EB43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5A43-94CC-495D-AF99-0527F26B0465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Global perspecives on coastal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oastal tourism trend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higher quality facilities/servi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demand for marine and coastal recreation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ore aware of environmental qu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oncern for responsibl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creasing interest in nature and cul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portunities to combine coastal and other eperiences through itineraries and multi-centred off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all-inclusive holi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rowth in cruise tou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enefits of coastal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tional revenue generation and international recei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cal jobs and prospe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upport for infrastructure and community facil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aising awareness of the need for conser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unding investment in environment and heri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viding alternative, more sustainable community livelihoo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Negative impacts and challenges  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hysical destruction and loss of ame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oss of habitat and biod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errestrial and marine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esource consumption and competi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Limited community engagement and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perty development patt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asonality and sensitivity of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Ledbury</cp:lastModifiedBy>
  <cp:lastPrinted>2013-10-19T18:19:27Z</cp:lastPrinted>
  <dcterms:modified xsi:type="dcterms:W3CDTF">2013-10-21T07:48:12Z</dcterms:modified>
  <cp:revision>51</cp:revision>
  <dc:subject/>
  <dc:title>PowerPoint Presentation</dc:title>
</cp:coreProperties>
</file>