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12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99075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9072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61168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485280" y="900000"/>
            <a:ext cx="456588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61168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DE24-37C9-4A8E-9377-6FB53182196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485640" y="9000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99A4-15E7-435F-81D8-C52A8405C6D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3C44-3608-4ED4-B7DB-5467ACA3CFA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981D-FE09-49D1-AB22-5E5CDD9C74A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F645-EDCD-47B0-A50B-2FE395D628F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9450-995F-431D-8F45-DA4DFCFB25D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C28D-1CD2-4201-A219-B50D3DB5C74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1EFF-0158-4F45-A99F-81EB58E8821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7AC7-D6D1-4D88-92FF-54BC5D33065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20F7-3164-449B-94B7-BC8381C3DE1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C317-8118-43B2-BC6D-F56F7F893AD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CFD5-AB97-492E-817E-5C5571E0E25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9071-A45E-4BD3-903E-E69F06751C0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D965-9067-4A91-B9AA-7774DA4DC69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E915-F2B2-46A6-B799-3297F1CF904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FB3F-5BDE-45DC-985A-24E1A2F6398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370-3941-4E60-89AA-24070182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557-C50B-4544-A387-AD771D8D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B0FE-CE66-4AE5-885C-56E705ED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C38-7445-46C0-9950-B05F892B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CDB0-525C-4FA2-8DED-ACDC59AB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3334-8C9D-4773-9C15-B21B5662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E03D-84F3-48CE-87BE-88EAF369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7631-A1D2-4D10-8A87-E66AA95F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CC9E-748A-4825-AFEA-D0903EB0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93E0-5472-4718-881B-8EE93C40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9372-3E0F-4E6A-BFEE-FAA3EE41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1140-D121-4601-9E9A-109A0027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DCB6-1F6B-4B71-9B08-18EC8096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FB53-937B-4669-8769-3C59D9DE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D550-D817-4182-822A-D0A45658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26A7-9700-48D2-A74C-B2F08467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9876-EB6F-4BB4-A63A-1791526F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B8B8-DDFA-451D-9C56-A01C3C24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6D1C-4DD9-4C66-96CC-15600572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7730-E30D-49F3-8AD4-FF82D4C1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64A-8102-492B-9F07-3C0B61DF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BD6D-5FAB-43B6-A676-8461BC32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22F-E57A-44C4-A7CD-3012E681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507-0D8D-4D07-AF3B-78225D35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1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FBDD-AAFA-4E00-8F50-D714B0E44CD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FAC1-18DB-4F1A-83F1-D3BCDFD21FF6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rdenman@thetourismcompany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n 4" descr="logo_unwto_ppt.jpg"/>
          <p:cNvPicPr/>
          <p:nvPr/>
        </p:nvPicPr>
        <p:blipFill>
          <a:blip r:embed="rId1"/>
          <a:stretch/>
        </p:blipFill>
        <p:spPr>
          <a:xfrm>
            <a:off x="517680" y="0"/>
            <a:ext cx="987120" cy="1395360"/>
          </a:xfrm>
          <a:prstGeom prst="rect">
            <a:avLst/>
          </a:prstGeom>
          <a:ln w="0">
            <a:noFill/>
          </a:ln>
        </p:spPr>
      </p:pic>
      <p:sp>
        <p:nvSpPr>
          <p:cNvPr id="91" name="Conector recto 4"/>
          <p:cNvSpPr/>
          <p:nvPr/>
        </p:nvSpPr>
        <p:spPr>
          <a:xfrm>
            <a:off x="4089240" y="0"/>
            <a:ext cx="0" cy="685800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7"/>
          <p:cNvSpPr/>
          <p:nvPr/>
        </p:nvSpPr>
        <p:spPr>
          <a:xfrm flipH="1">
            <a:off x="517680" y="2540160"/>
            <a:ext cx="8626320" cy="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ector recto 11"/>
          <p:cNvSpPr/>
          <p:nvPr/>
        </p:nvSpPr>
        <p:spPr>
          <a:xfrm>
            <a:off x="6654960" y="0"/>
            <a:ext cx="0" cy="254016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ángulo 12"/>
          <p:cNvSpPr/>
          <p:nvPr/>
        </p:nvSpPr>
        <p:spPr>
          <a:xfrm>
            <a:off x="517680" y="2540160"/>
            <a:ext cx="3571560" cy="4317840"/>
          </a:xfrm>
          <a:prstGeom prst="rect">
            <a:avLst/>
          </a:prstGeom>
          <a:solidFill>
            <a:srgbClr val="c8c9e8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uadroTexto 3"/>
          <p:cNvSpPr/>
          <p:nvPr/>
        </p:nvSpPr>
        <p:spPr>
          <a:xfrm>
            <a:off x="552600" y="2784600"/>
            <a:ext cx="3552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REGIONAL COAST ST G&amp;M SEMIN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Ada, Gha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October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4 CuadroTexto"/>
          <p:cNvSpPr/>
          <p:nvPr/>
        </p:nvSpPr>
        <p:spPr>
          <a:xfrm>
            <a:off x="4211640" y="2708280"/>
            <a:ext cx="457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fluencing Coastal Tourism Development and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416320" cy="181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P7140478"/>
          <p:cNvPicPr/>
          <p:nvPr/>
        </p:nvPicPr>
        <p:blipFill>
          <a:blip r:embed="rId3"/>
          <a:stretch/>
        </p:blipFill>
        <p:spPr>
          <a:xfrm>
            <a:off x="4235400" y="468360"/>
            <a:ext cx="2336760" cy="182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9" name="Content Placeholder 3" descr=""/>
          <p:cNvPicPr/>
          <p:nvPr/>
        </p:nvPicPr>
        <p:blipFill>
          <a:blip r:embed="rId4"/>
          <a:stretch/>
        </p:blipFill>
        <p:spPr>
          <a:xfrm>
            <a:off x="6726240" y="517680"/>
            <a:ext cx="2370240" cy="17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Exert influence on development through advice, assistance, incentives and agreement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vide positive approaches and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courage early dialo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k with Investment Promotion Ag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ider targeted financial incen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concessions, agreements etc. where applic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operation of coastal tourism enterpris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2" name="Picture 5" descr="IMG_8794"/>
          <p:cNvPicPr/>
          <p:nvPr/>
        </p:nvPicPr>
        <p:blipFill>
          <a:blip r:embed="rId1"/>
          <a:stretch/>
        </p:blipFill>
        <p:spPr>
          <a:xfrm>
            <a:off x="1636560" y="119700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828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operation of coastal tourism enterpris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Strengthen the reach and potency of inspection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spections by Environment Agencies, Tourist Authorities and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sources for inspection are stretc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portunities to coordinate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ublicise/promote results of insp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nitor state of external environment as well as internal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828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operation of coastal tourism enterpris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6" name="Picture 5" descr="IMG_8704"/>
          <p:cNvPicPr/>
          <p:nvPr/>
        </p:nvPicPr>
        <p:blipFill>
          <a:blip r:embed="rId1"/>
          <a:stretch/>
        </p:blipFill>
        <p:spPr>
          <a:xfrm>
            <a:off x="1636560" y="119700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1476360" y="587700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cean Bay Hotel, Cap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828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operation of coastal tourism enterpris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Stimulate and assist improved environmental (sustainability) management by tourism enterpri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k with representative 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larify requirements – improv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vide and promote EMS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engthen voluntary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courage/support/promote certification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courage use of voluntary c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cognise economic sustainability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ichard Den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denman@thetourismcompany.co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Topics covered in this session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fluencing Coastal Tourism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fluencing the Operation of Coastal Tourism Enterpri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portant links with the previous se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urism Master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CZM process and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cal destination management plan / tourism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nd use planning – for coast and local dest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Strengthen effective application of EIAs for coastal tourism develop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iversal tool, used in all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cern about effectiven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ed to focus 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larity and consistency on what needed for tour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ppropriate treatment of small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bjectivity and expert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rengthening local consul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taking EIAs earlier in the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eadth of content – Strategic Environmental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nitoring and enforc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4932360" y="1197000"/>
            <a:ext cx="3181320" cy="452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"/>
          <p:cNvPicPr/>
          <p:nvPr/>
        </p:nvPicPr>
        <p:blipFill>
          <a:blip r:embed="rId2"/>
          <a:stretch/>
        </p:blipFill>
        <p:spPr>
          <a:xfrm>
            <a:off x="984240" y="1197000"/>
            <a:ext cx="3149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Review and improve the process of handling and approving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ny steps needed to acquire lic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ng delays can lead to circum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ed better + quicker scrutiny and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portant to make basic requirements clearer at the out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12" name="Picture 8" descr="DSCF0473"/>
          <p:cNvPicPr/>
          <p:nvPr/>
        </p:nvPicPr>
        <p:blipFill>
          <a:blip r:embed="rId1"/>
          <a:stretch/>
        </p:blipFill>
        <p:spPr>
          <a:xfrm>
            <a:off x="1636560" y="119700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Provide clear guidelines on coastal tourism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formation is a weakness and an opport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written guide would be helpful, to cov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ourism opportunities, reflecting any pl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eps to fol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gulations and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actical guidance on good practice – location, design, materials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lating to local commun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ould be used by all agencies handling coastal tourism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197000"/>
            <a:ext cx="740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961920" y="1197000"/>
            <a:ext cx="319248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2"/>
          <a:srcRect l="21662" t="28621" r="18197" b="15679"/>
          <a:stretch/>
        </p:blipFill>
        <p:spPr>
          <a:xfrm>
            <a:off x="5580000" y="1989000"/>
            <a:ext cx="21607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17:39Z</dcterms:created>
  <dc:creator>UNWTO</dc:creator>
  <dc:description/>
  <dc:language>en-US</dc:language>
  <cp:lastModifiedBy>Richard Denman</cp:lastModifiedBy>
  <cp:lastPrinted>2013-10-19T18:06:53Z</cp:lastPrinted>
  <dcterms:modified xsi:type="dcterms:W3CDTF">2013-10-19T18:09:14Z</dcterms:modified>
  <cp:revision>47</cp:revision>
  <dc:subject/>
  <dc:title>PowerPoint Presentation</dc:title>
</cp:coreProperties>
</file>