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50920" y="1412640"/>
            <a:ext cx="4752720" cy="36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53A2-43B1-4A00-86E8-538ECB75CE6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5A3F-5B75-4028-9D87-FEE728EFC23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F112-BB2C-4351-8544-D63EDB47D40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E36D-58EE-4D00-BCB4-D779A7662BC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2331-7A46-457E-AC88-169EC4CAE36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764F-8ABB-495F-94E8-EC91F0BE1E1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1DE3-05F6-4478-B8F3-A3615AC8E52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E790-97E7-4466-9097-63809645921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8A9A-BC09-4CBE-B37A-B2A90AD7B6B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3E72-2E01-4478-A8AF-0F2DF984BA8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8E8A-0105-4984-9C58-6B25BE81FDD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828A-4F4D-4C99-B5C8-00E92E7C893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1BFA-11DB-42EB-9D00-F3FCA3B28E1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9856-42AD-4796-A080-6A423B578F1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932-2706-41F2-9C4B-78BD846E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450-3F77-45DF-86D6-C7627613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ED4-2855-4A8C-AA3A-4581323F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C22-38F3-4701-9777-74795EA7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9855-009D-4818-BDDB-B23D3EAE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485A-4634-4098-9CE6-E78F38BA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CE33-3CFB-4B1C-83F1-03AE1F9B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0653-2F71-44B3-87FC-8D56C62C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512A-A924-45B4-B381-3620B02C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0256-F86F-42AC-8371-1BD799D9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4B8B-6EDF-4F94-892D-22D05BEC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121-BDBB-40B0-B21C-59C2209F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4350-6A3D-4EFC-961E-3A65ABC3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6044-D804-4B71-BB8D-F0A1ED33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439A-B71E-49F6-83D1-4A379ADB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A9C6-A71A-4CC4-9FE9-6CDA762A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E0E8-62A8-43DD-B37C-FC86F6B8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437-FAD4-4E00-82A0-F4F28A67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6FD-92E0-4233-A3E7-234B0DBD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BDC-CBC2-4E65-AFE2-CFE1B413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46E-A1A3-4C7E-B79F-A9001E6F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3FA-9315-4938-870A-01E32B04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E56-FCE5-46A8-81C1-A293B7BC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AAA-8EAE-4467-9C97-4E27E531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A23B-B226-41DF-B786-E83B5E78402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0707-AA75-470A-863B-9ED8E781DCBF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rdenman@thetourismcompany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Use of Economic Incen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Recommendations for pursuing economic instruments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Understand the issues and the priorities for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onsider whether economic incentives are appropriate instruments to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Look at the existing provision of subsidies and other instruments and their effect on sustainability in the tourism sector, with a view to amend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larify policies over pricing and charging for the use of resources and management of waste in the tourism sector and consider any changes in their 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Ensure that any existing and future sustainability incentives are clearly identified and promoted to tourism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view policies and practice for charging for admission to protected areas and other designated sites and the use of resulting reven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Recommendations for pursuing economic instruments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3960" y="90792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view policies and practice for the granting of rights and concessions for the pursuit of tourism activ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onsider how certification schemes or other identification processes could be used more effectively in the application and impact of economic incen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late economic incentives to the promotion of Corporate Social Respon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view and seek to strengthen the impact of actions to promote and support alternative livelihoods based on tour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Focus marketing on tourism products and activities that meet sustainability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ommunicate the economic advantages of adopting a sustainable approach to tour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QUESTION FOR DISCUSSION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y some good and practical ways in which economic incentives could be effectively used to improve the sustainability of coastal tour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chard Den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enman@thetourismcompany.co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Basis of this presentation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aper 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The role of economic incentives in the governance and management of sustainable tourism in coast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KS T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fluencing Coastal Tourism Development and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The use of economic incentives in sustainable development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garded as a key tool since Earth Summit, Rio in 199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ernalise costs ‘Polluter Pays’ princi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cus on incentives for biodiversity con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ush to phase out harmful incen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derstand economic value –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e Economics of Ecosystems and Biodiversity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G8+5, 200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k to livelihoods and poverty re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ke conservation economically attra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The use of economic incentives in sustainable development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ypes of economic incen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xes and subsidies (including reforming exis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dable perm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icing and char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trance / user f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rket creation – e.g. based on labe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nds and deposit sc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edit – including micro-cred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ensation payments – e.g. buyo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servation agreements – including payment for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pporting alternative livelih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cession schemes and lease agreement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The use of economic incentives in sustainable development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ome key points in the use of economic incentiv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capacity to implement incentives will v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conomic incentives can often work well with other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entives should be simple and focu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equate funding and commitment i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gibility should be clearly def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to build acceptance from those impli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ltiple benefits is revenue is also rai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nsitive to the level at which taxes, charges etc. are 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ircumstances may change, requiring regular re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Use of economic incentives in tourism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4392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ecial relationship between tourism and the environment as an economic sector that gains income from biodiversity and clean environ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xes and charges on businesses and tour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change behavi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 a source of inc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nts, loans, credit – as direct support or le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nting conc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with other instruments e.g. cer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2" descr="making tour more sus"/>
          <p:cNvPicPr/>
          <p:nvPr/>
        </p:nvPicPr>
        <p:blipFill>
          <a:blip r:embed="rId1"/>
          <a:stretch/>
        </p:blipFill>
        <p:spPr>
          <a:xfrm>
            <a:off x="5518080" y="1271520"/>
            <a:ext cx="30956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Current use in COAST countri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Promotion Agencies – assist development , but do not promote sustainability (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x relief widely applied to tourism investment – but not linked to sus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me provision of grants and credit for sustainable tourism – especially linked to international initiatives  (e.g. ST-E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tting of taxes and charges on energy, water, waste management, sewerage etc. – not tourism specific (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of admission charges, with some revenue used lo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of concessions and granting of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arious projects to promote alternative livelih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itiatives to identify good practice and create a market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motion of some community-based and sustainable tourism initi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0" t="15890" r="2008" b="34760"/>
          <a:stretch/>
        </p:blipFill>
        <p:spPr>
          <a:xfrm>
            <a:off x="1042920" y="907920"/>
            <a:ext cx="7056360" cy="2233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2"/>
          <a:srcRect l="24537" t="42687" r="28301" b="22890"/>
          <a:stretch/>
        </p:blipFill>
        <p:spPr>
          <a:xfrm>
            <a:off x="1763640" y="3573360"/>
            <a:ext cx="5688000" cy="273708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684360" y="3429000"/>
            <a:ext cx="784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6064" t="10277" r="8052" b="7534"/>
          <a:stretch/>
        </p:blipFill>
        <p:spPr>
          <a:xfrm>
            <a:off x="684360" y="189000"/>
            <a:ext cx="8135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Richard Denman</cp:lastModifiedBy>
  <dcterms:modified xsi:type="dcterms:W3CDTF">2013-10-19T18:14:41Z</dcterms:modified>
  <cp:revision>44</cp:revision>
  <dc:subject/>
  <dc:title>PowerPoint Presentation</dc:title>
</cp:coreProperties>
</file>