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85280" y="900000"/>
            <a:ext cx="456588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2260-A4E8-40D9-823D-515B020C0B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85640" y="9000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EDC-4572-43AB-8E06-A5C130D84B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D4DB-EEB8-41F3-9BB1-A9313EBB1B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5A2-F34E-4A7D-AC7B-D1091241CD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409-F6F0-4103-8109-A9ABD73EBC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D11-DC2D-4916-A875-55051694FD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D6D-EC3F-46F0-9813-C1488C3F75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5CF8-FBA4-434B-A831-3C59030234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030E-A272-419F-87DF-3087B7015A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119A-F029-4DB6-B7A5-2A03095F2E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ED46-6A02-4590-953F-66398BD554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174-E106-4306-99F5-B0B1CDC146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8280-0EDF-4836-BAB2-70542CD4A7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BC1-3C57-4CD9-9AE1-0B828FA434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0BE-26CD-4CF8-B9D2-2B63AF4E30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8AF-638A-4502-8236-E2FA468BF8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F77-80F3-4394-8686-1CF22E1E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0E5-242E-4058-851D-60A1482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4ED-3CF5-4202-811A-477CFF67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2EA-54D4-4596-8F1C-113DE85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B3E-E44E-4167-A6C2-4A69A65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C924-AEA4-4A3B-91D8-EC7E99F9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05BA-0CF3-4291-B402-7C6C084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BF1D-BFDB-42DB-9E6D-2BB00FE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9474-9837-4F05-BCD3-D311794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CD60-0835-423B-A3D1-3CCDB73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81A4-6AC5-4F54-BD0F-979D9AC9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659-FF21-4790-A135-363D93DA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FE3-F725-4846-A154-1EBFA00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940F-6293-4814-8431-F07A227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D0C9-7E2D-4811-981B-6EAD92BA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6422-9C17-4CB6-B8AD-DDBA51FD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B28-9BCB-4568-8911-E5685280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92F-EC66-4C6B-B38A-D9C14483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A4E-99ED-4266-AEF7-0B192A5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9AC-343A-4ABF-8BA9-049C01C1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061-F015-466D-8C92-0EB607E9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B94-4A85-4EA7-9B77-7101785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8A0-FA2B-4E03-AE64-6534BB91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D64-0430-4185-A2A7-97E30BD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22C-46BB-4A01-9BF9-761CEE68151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F52-F217-4D13-BB3E-0A1917D0AE2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fluencing Coastal Tourism Development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Exert influence on development through advice, assistance, incentives and agreeme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positive approaches and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early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Investment Promotion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argeted financia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concessions, agreements etc. where 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5" descr="IMG_879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the reach and potency of inspec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pections by Environment Agencies, Tourist Authorities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ources for inspection are stret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portunities to coordinat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ise/promote results of insp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state of external environment as well as intern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Picture 5" descr="IMG_870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5877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ean Bay Hotel, Cap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imulate and assist improved environmental (sustainability) management by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representative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rify requirements – improv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and promote EM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ngthen voluntary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/support/promote certification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use of voluntary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 economic sustainabili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opics covered in this se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the Operation of Coastal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links with the previous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urism Maste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CZM process and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 destination management plan / touris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 planning – for coast and loc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effective application of EIAs for coastal tourism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al tool, used in al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rn about effect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focu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and consistency on what needed for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ropriate treatment of smal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ity and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ngthening local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taking EIAs earlier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eadth of content – Strategic Environment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nitoring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181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984240" y="11970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view and improve the process of handling and approv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eps needed to acquire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delays can lead to circum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better + quicker scrutiny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to make basic requirements clearer at the out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8" descr="DSCF0473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Provide clear guidelines on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is a weakness and an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written guide would be helpful, to co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 opportunities, reflecting any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eps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ion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al guidance on good practice – location, design, material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ng to local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be used by all agencies handl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1970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61920" y="11970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rcRect l="21662" t="28621" r="18197" b="15679"/>
          <a:stretch/>
        </p:blipFill>
        <p:spPr>
          <a:xfrm>
            <a:off x="5580000" y="1989000"/>
            <a:ext cx="216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06:53Z</cp:lastPrinted>
  <dcterms:modified xsi:type="dcterms:W3CDTF">2013-10-19T18:09:14Z</dcterms:modified>
  <cp:revision>47</cp:revision>
  <dc:subject/>
  <dc:title>PowerPoint Presentation</dc:title>
</cp:coreProperties>
</file>