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50920" y="1412640"/>
            <a:ext cx="4752720" cy="36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B8BA-D9CF-4C36-A917-0855AF79F5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A750-3F8C-4407-8BB0-83FAFD6B46B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FB3F-53F2-4F55-98E0-607F6820F6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A51D-C2FD-4332-97C2-EAB1A9DE591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FB4F-81B5-4F05-B0BE-FCA37F7B553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26E3-F05D-4B3E-9B08-E9FCC2CD33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DBEB-61B1-4181-9540-893C3B42075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22BC-E181-4DE6-B00D-5F2067D3DFB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B276-BF12-4ECB-B1E4-CB3F4A03E76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2DDF-E22F-4537-980E-D02A10A9C6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DAD3-6707-42A7-8576-6BA64602CEE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A2CA-7CC3-4781-9525-808D74B75D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C8BE-B45F-4371-B851-EC8B686FB89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79280" y="1413000"/>
            <a:ext cx="4896000" cy="3671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5179680" y="1267920"/>
            <a:ext cx="263196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286F-E199-4690-B874-3B866E0E964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09A-1C3C-4DC7-8322-167566E0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BA26-5297-434F-B5A4-8AF05BCB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FD0-938F-4838-B8C1-DFF721C0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599-3ADF-49B1-9162-008F64AD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3FAD-7FD3-4358-81D6-E602F0A4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DB80-C045-4252-A368-3E4936D4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204A-9DA3-4794-9E4C-09C859C6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0697-39CD-423F-A035-A19E6D0F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1B47-E80D-47AA-BF9A-7044C002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804E-4B64-49EE-B28A-73ADFC92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A5EF-024D-4618-A02A-FEC552B4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6B0-D285-473E-A0DA-3DF88EAB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80F3-A3E4-49C6-8E2C-4EACAC16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F490-3947-4A71-81AF-6EE07098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745E-1EDD-4FE3-9E72-D9C16A28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651F-900A-4CFA-9FF2-BEF34BDB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452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452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B1CF-49D8-42AB-BEF5-8D90E1C9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8814-7EB0-4221-A735-B5252919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3B9-D017-4152-ABF7-63639DC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AE1-1C46-475B-AF6C-AA41F42B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3E6-E66C-423B-9FA3-DF7F2F2B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EAE-C76F-45E3-87BA-D436B20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C319-3681-40FE-83A2-0A7E55B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C26-AB27-4FCC-BEDB-B87C7108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1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9B5-4F1C-40CB-9B05-19415A0918B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54E3-D1A8-4947-9ECE-B326117F46C2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rdenman@thetourismcompany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4" descr="logo_unwto_ppt.jpg"/>
          <p:cNvPicPr/>
          <p:nvPr/>
        </p:nvPicPr>
        <p:blipFill>
          <a:blip r:embed="rId1"/>
          <a:stretch/>
        </p:blipFill>
        <p:spPr>
          <a:xfrm>
            <a:off x="517680" y="0"/>
            <a:ext cx="987120" cy="1395360"/>
          </a:xfrm>
          <a:prstGeom prst="rect">
            <a:avLst/>
          </a:prstGeom>
          <a:ln w="0">
            <a:noFill/>
          </a:ln>
        </p:spPr>
      </p:pic>
      <p:sp>
        <p:nvSpPr>
          <p:cNvPr id="91" name="Conector recto 4"/>
          <p:cNvSpPr/>
          <p:nvPr/>
        </p:nvSpPr>
        <p:spPr>
          <a:xfrm>
            <a:off x="4089240" y="0"/>
            <a:ext cx="0" cy="685800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7"/>
          <p:cNvSpPr/>
          <p:nvPr/>
        </p:nvSpPr>
        <p:spPr>
          <a:xfrm flipH="1">
            <a:off x="517680" y="2540160"/>
            <a:ext cx="8626320" cy="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onector recto 11"/>
          <p:cNvSpPr/>
          <p:nvPr/>
        </p:nvSpPr>
        <p:spPr>
          <a:xfrm>
            <a:off x="6654960" y="0"/>
            <a:ext cx="0" cy="2540160"/>
          </a:xfrm>
          <a:prstGeom prst="line">
            <a:avLst/>
          </a:prstGeom>
          <a:ln w="25560">
            <a:solidFill>
              <a:srgbClr val="c8c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ángulo 12"/>
          <p:cNvSpPr/>
          <p:nvPr/>
        </p:nvSpPr>
        <p:spPr>
          <a:xfrm>
            <a:off x="517680" y="2540160"/>
            <a:ext cx="3571560" cy="4317840"/>
          </a:xfrm>
          <a:prstGeom prst="rect">
            <a:avLst/>
          </a:prstGeom>
          <a:solidFill>
            <a:srgbClr val="c8c9e8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uadroTexto 3"/>
          <p:cNvSpPr/>
          <p:nvPr/>
        </p:nvSpPr>
        <p:spPr>
          <a:xfrm>
            <a:off x="552600" y="2784600"/>
            <a:ext cx="355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REGIONAL COAST ST G&amp;M SEMIN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Ada, Gh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 Narrow Bold"/>
                <a:ea typeface="MS PGothic"/>
              </a:rPr>
              <a:t>October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14 CuadroTexto"/>
          <p:cNvSpPr/>
          <p:nvPr/>
        </p:nvSpPr>
        <p:spPr>
          <a:xfrm>
            <a:off x="4211640" y="27082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MS PGothic"/>
              </a:rPr>
              <a:t>Use of Economic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416320" cy="181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P7140478"/>
          <p:cNvPicPr/>
          <p:nvPr/>
        </p:nvPicPr>
        <p:blipFill>
          <a:blip r:embed="rId3"/>
          <a:stretch/>
        </p:blipFill>
        <p:spPr>
          <a:xfrm>
            <a:off x="4235400" y="468360"/>
            <a:ext cx="2336760" cy="182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9" name="Content Placeholder 3" descr=""/>
          <p:cNvPicPr/>
          <p:nvPr/>
        </p:nvPicPr>
        <p:blipFill>
          <a:blip r:embed="rId4"/>
          <a:stretch/>
        </p:blipFill>
        <p:spPr>
          <a:xfrm>
            <a:off x="6726240" y="517680"/>
            <a:ext cx="2370240" cy="17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Understand the issues and the priorities for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whether economic incentives are appropriate instruments to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Look at the existing provision of subsidies and other instruments and their effect on sustainability in the tourism sector, with a view to amend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larify policies over pricing and charging for the use of resources and management of waste in the tourism sector and consider any changes in their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Ensure that any existing and future sustainability incentives are clearly identified and promoted to tourism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charging for admission to protected areas and other designated sites and the use of resulting reven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Recommendations for pursuing economic instruments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3960" y="90792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policies and practice for the granting of rights and concessions for the pursuit of tourism activ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nsider how certification schemes or other identification processes could be used more effectively in the application and impact of economic incen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late economic incentives to the promotion of Corporate Social Respon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Review and seek to strengthen the impact of actions to promote and support alternative livelihoods based on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Focus marketing on tourism products and activities that meet sustainability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Communicate the economic advantages of adopting a sustainable approach to tour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QUESTION FOR DISCUSS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y some good and practical ways in which economic incentives could be effectively used to improve the sustainability of coastal tour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ichard Den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denman@thetourismcompany.co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Basis of this presentation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per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The role of economic incentives in the governance and management of sustainable tourism in coast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S 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fluencing Coastal Tourism Development and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garded as a key tool since Earth Summit, Rio in 199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ernalise costs ‘Polluter Pays’ princi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cus on incentives for biodiversity con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ush to phase out harmful incen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stand economic value –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Economics of Ecosystems and Biodiversit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G8+5, 20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k to livelihoods and poverty re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ke conservation economically attr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ypes of economic incentiv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subsidies (including reforming exis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dable per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icing and char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ntrance / user f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rket creation – e.g. based on label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nds and deposit sche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redit – including micro-cred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mpensation payments – e.g. buyo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servation agreements – including payment for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upporting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ession schemes and lease agreement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f497d"/>
                </a:solidFill>
                <a:latin typeface="Arial"/>
              </a:rPr>
              <a:t>The use of economic incentives in sustainable development</a:t>
            </a:r>
            <a:endParaRPr b="1" i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me key points in the use of economic incentiv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capacity to implement incentives will v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nomic incentives can often work well with oth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centives should be simple and focu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dequate funding and commitment i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gibility should be clearly def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to build acceptance from those impl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ltiple benefits is revenue is also rai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nsitive to the level at which taxes, charges etc. are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ircumstances may change, requiring regular re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Use of economic incentives in tourism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439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pecial relationship between tourism and the environment as an economic sector that gains income from biodiversity and clean environ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es and charges on businesses and tour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change behavi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s a source of in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s, loans, credit – as direct support or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ing conc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with other instruments e.g. cer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making tour more sus"/>
          <p:cNvPicPr/>
          <p:nvPr/>
        </p:nvPicPr>
        <p:blipFill>
          <a:blip r:embed="rId1"/>
          <a:stretch/>
        </p:blipFill>
        <p:spPr>
          <a:xfrm>
            <a:off x="5518080" y="1271520"/>
            <a:ext cx="30956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1f497d"/>
                </a:solidFill>
                <a:latin typeface="Arial"/>
              </a:rPr>
              <a:t>Current use in COAST countries</a:t>
            </a: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ment Promotion Agencies – assist development , but do not promote sustainability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x relief widely applied to tourism investment – but not linked to sus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me provision of grants and credit for sustainable tourism – especially linked to international initiatives  (e.g. ST-E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ting of taxes and charges on energy, water, waste management, sewerage etc. – not tourism specific (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admission charges, with some revenue used lo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of concessions and granting of righ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arious projects to promote alternative liveliho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itiatives to identify good practice and create a market advan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motion of some community-based and sustainable tourism initi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0" t="15890" r="2008" b="34760"/>
          <a:stretch/>
        </p:blipFill>
        <p:spPr>
          <a:xfrm>
            <a:off x="1042920" y="907920"/>
            <a:ext cx="7056360" cy="223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rcRect l="24537" t="42687" r="28301" b="22890"/>
          <a:stretch/>
        </p:blipFill>
        <p:spPr>
          <a:xfrm>
            <a:off x="1763640" y="3573360"/>
            <a:ext cx="5688000" cy="273708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684360" y="3429000"/>
            <a:ext cx="78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6064" t="10277" r="8052" b="7534"/>
          <a:stretch/>
        </p:blipFill>
        <p:spPr>
          <a:xfrm>
            <a:off x="684360" y="189000"/>
            <a:ext cx="81356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17:39Z</dcterms:created>
  <dc:creator>UNWTO</dc:creator>
  <dc:description/>
  <dc:language>en-US</dc:language>
  <cp:lastModifiedBy>Richard Denman</cp:lastModifiedBy>
  <dcterms:modified xsi:type="dcterms:W3CDTF">2013-10-19T18:14:41Z</dcterms:modified>
  <cp:revision>44</cp:revision>
  <dc:subject/>
  <dc:title>PowerPoint Presentation</dc:title>
</cp:coreProperties>
</file>