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9075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072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611680" y="0"/>
            <a:ext cx="4292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3360" y="900000"/>
            <a:ext cx="45655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611680" y="6453000"/>
            <a:ext cx="429264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5F85-9A34-4857-BDC5-863FFACC754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0CCA-4D81-4129-9F86-E338BD62D9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B09-DBFA-4396-B0C6-C5078ADF41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B033-E70E-4087-BDCD-60D450A434C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E400-71BA-4AAA-B088-BA3A1F7C33F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9A9E-FAD4-4198-B0A5-D6CEA36A04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EF81-4F43-4583-BCE0-3A48D4C401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255-72A8-4546-9617-C4D3E856650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1B44-F1E3-4C82-9DE0-99C990AC56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A425-6568-499F-B3B0-09BF84A6AD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C696-EA4E-4382-A25E-15DCA3C66DE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C8AB-0D03-4F73-8648-41A2DE96C5A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0D0C-59EE-42A9-B5A9-F2F1729CFD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9EFB-CD92-4E51-94AF-D8270ABD1DB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E11A-ED38-459F-B53C-3FF70A25618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601560" y="9000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122520" y="910800"/>
            <a:ext cx="294804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611680" y="6453360"/>
            <a:ext cx="4292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CCB8-03B6-472A-B048-CA53F9B228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D92-2DDB-48D1-A4C1-7C8E7392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E03-5E71-43C5-A7DC-C6DE4CCC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7A3-4617-47B8-BDD3-40090B59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11B-2303-405E-B9E3-E6D1FBDA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FF85-56FE-415B-8EEA-6FE2D671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E064-88CF-49B4-962B-C739FD3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20B-5E18-4093-942D-9DAEF25E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5023-CA22-4070-BA1D-28688F4E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A3B0-2896-443A-9336-CAB063A0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43B0-5CBE-473D-9552-CDA60C2C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1104-063D-4D6D-A64D-12A469F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32A-BF87-4FA2-9948-0E64890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B781-ADCE-4196-B306-106125C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D5D-F183-4DE9-8DA6-8747D55D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B68C-32A8-4276-9C5B-17C1C15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549-7813-4D1A-96B1-82AEE93A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0755-B1F5-4109-B85C-E629ABF0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E8D-A2DE-4BE4-85BE-0B35B77D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739-4069-4864-93C1-21E43C76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ABEC-25C9-45E5-BC4E-21CD24B4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36E-36D5-47D0-B1CA-90211D56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495-EBE4-459B-A6B6-FC98EB1A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C40-41DA-4ECE-BB94-8092D93E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5AC-A945-4AF4-B93A-03BA5AA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9912-81CC-4460-A457-5FFDFBF2CCA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F79F-4F5C-49B8-AAC9-60CC25745B20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Managing Coastal Environments linked to tour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MG_8635"/>
          <p:cNvPicPr/>
          <p:nvPr/>
        </p:nvPicPr>
        <p:blipFill>
          <a:blip r:embed="rId1"/>
          <a:stretch/>
        </p:blipFill>
        <p:spPr>
          <a:xfrm>
            <a:off x="826920" y="765000"/>
            <a:ext cx="7475760" cy="56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enerate resources from tourism to support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admission and conc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courage businesses to support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gifting schemes aimed at tour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income from fines and pena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1" name="Picture 6" descr="IMG_0747"/>
          <p:cNvPicPr/>
          <p:nvPr/>
        </p:nvPicPr>
        <p:blipFill>
          <a:blip r:embed="rId1"/>
          <a:stretch/>
        </p:blipFill>
        <p:spPr>
          <a:xfrm>
            <a:off x="539640" y="549360"/>
            <a:ext cx="820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23" name="Picture 9" descr="IMG_8933"/>
          <p:cNvPicPr/>
          <p:nvPr/>
        </p:nvPicPr>
        <p:blipFill>
          <a:blip r:embed="rId1"/>
          <a:stretch/>
        </p:blipFill>
        <p:spPr>
          <a:xfrm>
            <a:off x="684360" y="692280"/>
            <a:ext cx="7488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IMG_9039"/>
          <p:cNvPicPr/>
          <p:nvPr/>
        </p:nvPicPr>
        <p:blipFill>
          <a:blip r:embed="rId1"/>
          <a:stretch/>
        </p:blipFill>
        <p:spPr>
          <a:xfrm>
            <a:off x="826920" y="333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Managing coastal environments linked to tourism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lier sections cover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overnance, policies,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fluencing the impact of tourism developments and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 are now addressing some more direct activities for management of coastal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ab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dress the causes and consequences of environmental degrada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result of tourism;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rom other sources, which consequently damage the tourism ass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B. Not a detailed treatment – this was an overall governance and management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03" name="Picture 8" descr="DSCF0207"/>
          <p:cNvPicPr/>
          <p:nvPr/>
        </p:nvPicPr>
        <p:blipFill>
          <a:blip r:embed="rId1"/>
          <a:stretch/>
        </p:blipFill>
        <p:spPr>
          <a:xfrm>
            <a:off x="5076720" y="3789360"/>
            <a:ext cx="31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DSCF0843"/>
          <p:cNvPicPr/>
          <p:nvPr/>
        </p:nvPicPr>
        <p:blipFill>
          <a:blip r:embed="rId2"/>
          <a:stretch/>
        </p:blipFill>
        <p:spPr>
          <a:xfrm>
            <a:off x="4859280" y="620640"/>
            <a:ext cx="3600360" cy="252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9024"/>
          <p:cNvPicPr/>
          <p:nvPr/>
        </p:nvPicPr>
        <p:blipFill>
          <a:blip r:embed="rId3"/>
          <a:stretch/>
        </p:blipFill>
        <p:spPr>
          <a:xfrm>
            <a:off x="1042920" y="3789360"/>
            <a:ext cx="3313080" cy="2330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55640" y="1125360"/>
            <a:ext cx="360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i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astal ero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Monitor environmental change and coordinate respon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itor the state of the environment using basic indicators and ob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clear lines of respon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together on joint 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G_8606"/>
          <p:cNvPicPr/>
          <p:nvPr/>
        </p:nvPicPr>
        <p:blipFill>
          <a:blip r:embed="rId1"/>
          <a:stretch/>
        </p:blipFill>
        <p:spPr>
          <a:xfrm>
            <a:off x="900000" y="47628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IMG_8440"/>
          <p:cNvPicPr/>
          <p:nvPr/>
        </p:nvPicPr>
        <p:blipFill>
          <a:blip r:embed="rId1"/>
          <a:stretch/>
        </p:blipFill>
        <p:spPr>
          <a:xfrm>
            <a:off x="826920" y="54936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Tackling coastal management issu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Raise awareness and facilitate community engagement in conservation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stablish local management groups from the co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 education programm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k with local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se events – e.g. beach cl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gage tourism businesses as champ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IMG_9227"/>
          <p:cNvPicPr/>
          <p:nvPr/>
        </p:nvPicPr>
        <p:blipFill>
          <a:blip r:embed="rId1"/>
          <a:stretch/>
        </p:blipFill>
        <p:spPr>
          <a:xfrm>
            <a:off x="880920" y="115920"/>
            <a:ext cx="747576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5" name="Picture 8" descr="Community_Radio_in_Ghana_001"/>
          <p:cNvPicPr/>
          <p:nvPr/>
        </p:nvPicPr>
        <p:blipFill>
          <a:blip r:embed="rId1"/>
          <a:stretch/>
        </p:blipFill>
        <p:spPr>
          <a:xfrm>
            <a:off x="755640" y="1052640"/>
            <a:ext cx="5545080" cy="360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image_preview-2"/>
          <p:cNvPicPr/>
          <p:nvPr/>
        </p:nvPicPr>
        <p:blipFill>
          <a:blip r:embed="rId2"/>
          <a:stretch/>
        </p:blipFill>
        <p:spPr>
          <a:xfrm>
            <a:off x="4788000" y="3284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cp:lastPrinted>2013-10-19T18:19:27Z</cp:lastPrinted>
  <dcterms:modified xsi:type="dcterms:W3CDTF">2013-10-19T18:22:58Z</dcterms:modified>
  <cp:revision>49</cp:revision>
  <dc:subject/>
  <dc:title>PowerPoint Presentation</dc:title>
</cp:coreProperties>
</file>