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9CBD-1CB5-436F-B96C-6A1F62FDD8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2D2-D35A-4244-9354-1E87458C58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BD7-E726-4D8B-AB58-0E10D8B335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F316-7E93-486E-B5B1-6936CD44BD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413-292F-45D1-8482-63DFBCADAB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FB6-B95A-4EE9-A84D-6769C7EE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AD5-AF9A-4940-AB5E-5509F52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BDE-2BFB-440C-8DA1-E0EF186A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F10-97FE-4CD8-A5E3-C442E72C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C77-9EE1-4874-9FA4-98620F8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9403-A9A3-4D3F-A8BC-44562EE5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6588-8534-4D92-BC6B-04C64C9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63C9-42C3-4AAD-B002-AC2C936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9CB8-9D18-4DBD-B036-0549ABB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AAF0-92E8-4694-B654-414ADD79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EF3E-E72A-4324-8BBE-00276CD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61B-B891-44A5-87F8-609A6A4B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55F-CCB6-4FF0-840D-7FDFBA6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BA4F-939D-4314-AD3B-94A4DC7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ECB-3DA0-4C62-9046-C963A46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A630-932C-4ABC-AB8E-A9390B52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7739-9611-4A10-8394-1BB7AC5C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F63-30ED-4C6D-9940-E77C6EAC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CE1-0506-4AA3-BB60-A4EB2A4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066-0C8C-4DA5-B5F5-963568E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21A-C5CA-4D0F-9B0D-099A8304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670-777F-43A8-9719-EA72019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139-7E82-406A-8402-8DA6614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0C2-E4FB-42F5-B285-4D28DFC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A308-1C90-4833-B163-F8DCF61A8EA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6E5-5449-4345-8522-C3D89A20187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Global perspecives on coastal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oastal tourism trend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higher quality facilities/ser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marine and coastal recreation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re aware of environmental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cern for responsibl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interest in nature and 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portunities to combine coastal and other eperiences through itineraries and multi-centred o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all-inclusive holi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cruis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enefits of coastal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tional revenue generation and international recei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cal jobs and prospe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pport for infrastructure and community fac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aising awareness of the need for conser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unding investment in environment and he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viding alternative, more sustainable community livelih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Negative impacts and challenges  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hysical destruction and loss of ame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ss of habitat and biod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restrial and marine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source consumption and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imited community engagement and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perty development patt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asonality and sensitiv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Ledbury</cp:lastModifiedBy>
  <cp:lastPrinted>2013-10-19T18:19:27Z</cp:lastPrinted>
  <dcterms:modified xsi:type="dcterms:W3CDTF">2013-10-21T07:48:12Z</dcterms:modified>
  <cp:revision>51</cp:revision>
  <dc:subject/>
  <dc:title>PowerPoint Presentation</dc:title>
</cp:coreProperties>
</file>