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50920" y="1412640"/>
            <a:ext cx="4752720" cy="367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DD25-CB20-4E6F-95B0-31DE2E055C5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79280" y="141300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4E53-4879-4447-ACC2-D752FB644CF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79280" y="141300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A886-522B-4CCD-8D5D-1F77A416A2A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79280" y="141300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2A78-C538-4D06-A91A-56CE02BBAAC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79280" y="141300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894F-EE2D-4DDF-B222-827EDF6230F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79280" y="141300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3B45-6079-40D3-968D-A8178D8FB93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79280" y="141300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C507-8328-4618-AFD1-06DBE0BD6F8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79280" y="141300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AFAF-8DE6-461B-8A42-14A9BEFEC51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79280" y="141300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3CBA-5EED-4CE0-B50D-5C0BAB49B26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79280" y="141300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7801-902E-4CD8-A263-61BD46E5398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79280" y="141300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49C0-6222-4014-A78F-E707A43BE76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79280" y="141300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5385-5D84-4164-91BF-1F1C5EB00BC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79280" y="141300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989EF-AA1C-4381-8EA2-BE0C5005C83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79280" y="141300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A2D5-5BCB-4513-B901-3606F3E4C8A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FFC4-D6E4-4F74-BD21-6DCB03B0F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BDC2-E7B9-48F1-A2A4-307E93D8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82B1-34A2-4563-8C6D-B66034FDB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08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452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08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452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56FC-C166-4562-B942-5B9219C1C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9003-5E58-48AD-8033-664A1788B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5A3F-621A-4A68-8613-2A021A7C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C6A51-2840-4D99-9964-9B4AC4A0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67EB-43E5-4F37-9F7C-A0E5CADA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B59F-54BC-4DEC-948D-8005C0B5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7D369-DA3C-4CD5-BA78-6BE23BB4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3D44-A9A8-4518-A72A-C7600257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0D34-7760-41C3-821C-C3F3806D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7363-10C8-4D34-B068-4F6DD16B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CDBC-122A-4C0D-B937-2218A32D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63C4-A8C7-436B-A64D-35B4E590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5C96-B08D-4A9D-8F6E-1B34C2EE9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2208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452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964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2208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452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6FEE-7E80-4166-9EC2-F85CA31D6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020A-7065-4121-9857-BB48718C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9031-35BC-429A-B069-58C05F3C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42AB-5E02-42D6-9500-097BF722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058E-997F-4FF4-9213-C79A4C83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E5CB-B841-42DE-8D85-0AC0CE28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4553-9F8F-47C7-94A8-136AEC4D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0F5A-2091-45DF-88AF-8B4F81C2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n 1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87DB-020E-4F40-9178-837D956EAA24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E155-0824-42DD-BDC9-3930B57326D6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rdenman@thetourismcompany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n 4" descr="logo_unwto_ppt.jpg"/>
          <p:cNvPicPr/>
          <p:nvPr/>
        </p:nvPicPr>
        <p:blipFill>
          <a:blip r:embed="rId1"/>
          <a:stretch/>
        </p:blipFill>
        <p:spPr>
          <a:xfrm>
            <a:off x="517680" y="0"/>
            <a:ext cx="987120" cy="1395360"/>
          </a:xfrm>
          <a:prstGeom prst="rect">
            <a:avLst/>
          </a:prstGeom>
          <a:ln w="0">
            <a:noFill/>
          </a:ln>
        </p:spPr>
      </p:pic>
      <p:sp>
        <p:nvSpPr>
          <p:cNvPr id="91" name="Conector recto 4"/>
          <p:cNvSpPr/>
          <p:nvPr/>
        </p:nvSpPr>
        <p:spPr>
          <a:xfrm>
            <a:off x="4089240" y="0"/>
            <a:ext cx="0" cy="6858000"/>
          </a:xfrm>
          <a:prstGeom prst="line">
            <a:avLst/>
          </a:prstGeom>
          <a:ln w="25560">
            <a:solidFill>
              <a:srgbClr val="c8c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onector recto 7"/>
          <p:cNvSpPr/>
          <p:nvPr/>
        </p:nvSpPr>
        <p:spPr>
          <a:xfrm flipH="1">
            <a:off x="517680" y="2540160"/>
            <a:ext cx="8626320" cy="0"/>
          </a:xfrm>
          <a:prstGeom prst="line">
            <a:avLst/>
          </a:prstGeom>
          <a:ln w="25560">
            <a:solidFill>
              <a:srgbClr val="c8c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onector recto 11"/>
          <p:cNvSpPr/>
          <p:nvPr/>
        </p:nvSpPr>
        <p:spPr>
          <a:xfrm>
            <a:off x="6654960" y="0"/>
            <a:ext cx="0" cy="2540160"/>
          </a:xfrm>
          <a:prstGeom prst="line">
            <a:avLst/>
          </a:prstGeom>
          <a:ln w="25560">
            <a:solidFill>
              <a:srgbClr val="c8c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ángulo 12"/>
          <p:cNvSpPr/>
          <p:nvPr/>
        </p:nvSpPr>
        <p:spPr>
          <a:xfrm>
            <a:off x="517680" y="2540160"/>
            <a:ext cx="3571560" cy="4317840"/>
          </a:xfrm>
          <a:prstGeom prst="rect">
            <a:avLst/>
          </a:prstGeom>
          <a:solidFill>
            <a:srgbClr val="c8c9e8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uadroTexto 3"/>
          <p:cNvSpPr/>
          <p:nvPr/>
        </p:nvSpPr>
        <p:spPr>
          <a:xfrm>
            <a:off x="552600" y="2784600"/>
            <a:ext cx="35528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Narrow Bold"/>
                <a:ea typeface="MS PGothic"/>
              </a:rPr>
              <a:t>REGIONAL COAST ST G&amp;M SEMINA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Narrow Bold"/>
                <a:ea typeface="MS PGothic"/>
              </a:rPr>
              <a:t>Ada, Gh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Narrow Bold"/>
                <a:ea typeface="MS PGothic"/>
              </a:rPr>
              <a:t>October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14 CuadroTexto"/>
          <p:cNvSpPr/>
          <p:nvPr/>
        </p:nvSpPr>
        <p:spPr>
          <a:xfrm>
            <a:off x="4211640" y="2708280"/>
            <a:ext cx="457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MS PGothic"/>
              </a:rPr>
              <a:t>Use of Economic Incen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2"/>
          <a:stretch/>
        </p:blipFill>
        <p:spPr>
          <a:xfrm>
            <a:off x="1547640" y="476280"/>
            <a:ext cx="2416320" cy="1812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P7140478"/>
          <p:cNvPicPr/>
          <p:nvPr/>
        </p:nvPicPr>
        <p:blipFill>
          <a:blip r:embed="rId3"/>
          <a:stretch/>
        </p:blipFill>
        <p:spPr>
          <a:xfrm>
            <a:off x="4235400" y="468360"/>
            <a:ext cx="2336760" cy="1827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99" name="Content Placeholder 3" descr=""/>
          <p:cNvPicPr/>
          <p:nvPr/>
        </p:nvPicPr>
        <p:blipFill>
          <a:blip r:embed="rId4"/>
          <a:stretch/>
        </p:blipFill>
        <p:spPr>
          <a:xfrm>
            <a:off x="6726240" y="517680"/>
            <a:ext cx="2370240" cy="17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f497d"/>
                </a:solidFill>
                <a:latin typeface="Arial"/>
              </a:rPr>
              <a:t>Recommendations for pursuing economic instruments</a:t>
            </a:r>
            <a:endParaRPr b="1" i="1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Understand the issues and the priorities for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Consider whether economic incentives are appropriate instruments to 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Look at the existing provision of subsidies and other instruments and their effect on sustainability in the tourism sector, with a view to amend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Clarify policies over pricing and charging for the use of resources and management of waste in the tourism sector and consider any changes in their appl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Ensure that any existing and future sustainability incentives are clearly identified and promoted to tourism stakeho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Review policies and practice for charging for admission to protected areas and other designated sites and the use of resulting reven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f497d"/>
                </a:solidFill>
                <a:latin typeface="Arial"/>
              </a:rPr>
              <a:t>Recommendations for pursuing economic instruments</a:t>
            </a:r>
            <a:endParaRPr b="1" i="1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3960" y="90792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Review policies and practice for the granting of rights and concessions for the pursuit of tourism activit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Consider how certification schemes or other identification processes could be used more effectively in the application and impact of economic incen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Relate economic incentives to the promotion of Corporate Social Respons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Review and seek to strengthen the impact of actions to promote and support alternative livelihoods based on tour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Focus marketing on tourism products and activities that meet sustainability 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Communicate the economic advantages of adopting a sustainable approach to tour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QUESTION FOR DISCUSSION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dentify some good and practical ways in which economic incentives could be effectively used to improve the sustainability of coastal tour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ichard Denm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rdenman@thetourismcompany.com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Basis of this presentation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aper 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The role of economic incentives in the governance and management of sustainable tourism in coastal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KS TO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nfluencing Coastal Tourism Development and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f497d"/>
                </a:solidFill>
                <a:latin typeface="Arial"/>
              </a:rPr>
              <a:t>The use of economic incentives in sustainable development</a:t>
            </a:r>
            <a:endParaRPr b="1" i="1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garded as a key tool since Earth Summit, Rio in 199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ternalise costs ‘Polluter Pays’ princi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ocus on incentives for biodiversity conserv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ush to phase out harmful incen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nderstand economic value –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he Economics of Ecosystems and Biodiversity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(G8+5, 200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k to livelihoods and poverty re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ke conservation economically attrac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f497d"/>
                </a:solidFill>
                <a:latin typeface="Arial"/>
              </a:rPr>
              <a:t>The use of economic incentives in sustainable development</a:t>
            </a:r>
            <a:endParaRPr b="1" i="1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1280" y="90756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ypes of economic incentiv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axes and subsidies (including reforming exist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radable perm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icing and char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ntrance / user f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rket creation – e.g. based on label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nds and deposit sche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redit – including micro-cred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mpensation payments – e.g. buyou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servation agreements – including payment for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upporting alternative liveliho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cession schemes and lease agreements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f497d"/>
                </a:solidFill>
                <a:latin typeface="Arial"/>
              </a:rPr>
              <a:t>The use of economic incentives in sustainable development</a:t>
            </a:r>
            <a:endParaRPr b="1" i="1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ome key points in the use of economic incentiv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capacity to implement incentives will var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conomic incentives can often work well with other instr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centives should be simple and focu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dequate funding and commitment is nee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ligibility should be clearly defi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ed to build acceptance from those impli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ultiple benefits is revenue is also rai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nsitive to the level at which taxes, charges etc. are s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ircumstances may change, requiring regular re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Use of economic incentives in tourism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4392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pecial relationship between tourism and the environment as an economic sector that gains income from biodiversity and clean environ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axes and charges on businesses and touris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o change behavi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s a source of inco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rants, loans, credit – as direct support or lever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ranting conces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with other instruments e.g. cert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2" descr="making tour more sus"/>
          <p:cNvPicPr/>
          <p:nvPr/>
        </p:nvPicPr>
        <p:blipFill>
          <a:blip r:embed="rId1"/>
          <a:stretch/>
        </p:blipFill>
        <p:spPr>
          <a:xfrm>
            <a:off x="5518080" y="1271520"/>
            <a:ext cx="309564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Current use in COAST countries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Promotion Agencies – assist development , but do not promote sustainability (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ax relief widely applied to tourism investment – but not linked to sus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me provision of grants and credit for sustainable tourism – especially linked to international initiatives  (e.g. ST-E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etting of taxes and charges on energy, water, waste management, sewerage etc. – not tourism specific (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of admission charges, with some revenue used loca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of concessions and granting of righ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Various projects to promote alternative liveliho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itiatives to identify good practice and create a market advant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motion of some community-based and sustainable tourism initia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rcRect l="0" t="15890" r="2008" b="34760"/>
          <a:stretch/>
        </p:blipFill>
        <p:spPr>
          <a:xfrm>
            <a:off x="1042920" y="907920"/>
            <a:ext cx="7056360" cy="2233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2"/>
          <a:srcRect l="24537" t="42687" r="28301" b="22890"/>
          <a:stretch/>
        </p:blipFill>
        <p:spPr>
          <a:xfrm>
            <a:off x="1763640" y="3573360"/>
            <a:ext cx="5688000" cy="2737080"/>
          </a:xfrm>
          <a:prstGeom prst="rect">
            <a:avLst/>
          </a:prstGeom>
          <a:ln w="0">
            <a:noFill/>
          </a:ln>
        </p:spPr>
      </p:pic>
      <p:sp>
        <p:nvSpPr>
          <p:cNvPr id="116" name="Line 7"/>
          <p:cNvSpPr/>
          <p:nvPr/>
        </p:nvSpPr>
        <p:spPr>
          <a:xfrm>
            <a:off x="684360" y="3429000"/>
            <a:ext cx="784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rcRect l="6064" t="10277" r="8052" b="7534"/>
          <a:stretch/>
        </p:blipFill>
        <p:spPr>
          <a:xfrm>
            <a:off x="684360" y="189000"/>
            <a:ext cx="81356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11:17:39Z</dcterms:created>
  <dc:creator>UNWTO</dc:creator>
  <dc:description/>
  <dc:language>en-US</dc:language>
  <cp:lastModifiedBy>Richard Denman</cp:lastModifiedBy>
  <dcterms:modified xsi:type="dcterms:W3CDTF">2013-10-19T18:14:41Z</dcterms:modified>
  <cp:revision>44</cp:revision>
  <dc:subject/>
  <dc:title>PowerPoint Presentation</dc:title>
</cp:coreProperties>
</file>