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0.wmf" ContentType="image/x-wmf"/>
  <Override PartName="/ppt/media/image12.jpeg" ContentType="image/jpeg"/>
  <Override PartName="/ppt/media/image7.wmf" ContentType="image/x-wmf"/>
  <Override PartName="/ppt/media/image11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99075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9072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2926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5611680" y="0"/>
            <a:ext cx="42926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485280" y="900000"/>
            <a:ext cx="4565880" cy="34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6453000"/>
            <a:ext cx="42926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5611680" y="6453000"/>
            <a:ext cx="42926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E39C-7714-4D57-8C53-CA7666B15C1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485640" y="90000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F7C2-E83F-44B2-B3AF-AF49C930F3B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90C1-E39F-4411-925E-92BAFCBABB9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014F-84C4-409A-8B54-E8129BB69E8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C4AA-64AC-4D46-9EDA-FFE10E5180E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897A-2635-4314-8A50-471AFC82A60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51DB-3006-4CDB-B5B3-028DF5D0D1E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3C37-F6C4-4B69-AB26-8CCE4F587E2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CD33-671E-457C-9D13-7B7788AEFEC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5C8A-2F2E-4C98-AD54-0B4B6C45E6A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B034-B7BE-4B78-8A71-5E30F1DFDFE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3BEA-8B40-45B1-882E-AB30A9B43E1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1C4E-968D-466E-8A8D-CA015A419A2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AE03-2447-4673-8CB3-BD96C426278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CE54-CAD0-4712-8304-84F844D439B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48420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498640" y="1400040"/>
            <a:ext cx="37450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4072-5617-4AA2-910F-669815FD671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CD98-5905-45C2-AE09-CB7231DB4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A0B5-2050-45F5-86BD-2FC23ED3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908D-DDCA-4434-B9F8-D0E5C7CEB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08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452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08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452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2BF9-5E72-45DF-BE5A-031DC95A6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495D-ACDA-435D-B3AE-6F04A2795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41AC-0741-4E63-8FAC-ED1DB131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742D-C1E7-4566-9E89-D67687AA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CE14B-7D54-4370-9C08-5FA950A0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1621-5A7D-48D8-83C8-995A8E4D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258D-F954-48AA-B925-D36EDFF9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3A5E-9517-46F4-B3F1-FC542A6F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EC8B-C0EB-419C-9C39-85BA647A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6209-F1A6-4CC8-928D-C4E7BFC7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C684-2467-480F-91C0-D93E7CA0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69E1-B642-482D-9269-5A037251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DE95-1813-457C-A37E-DDB197AED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2208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452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964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2208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452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E46F-D87E-4AAC-95AE-DEE9BB2F9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B99B-A445-4834-A15D-99681FC6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0A7D-701D-48C0-8A9C-9A54BCAD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E1AF-326B-4077-B1F6-96F8FAA4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69A8-21BC-4B4C-87CB-1F9A6461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99F1-10C5-4330-941A-36116B00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2E03-E31E-4638-A27F-B084AA53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7C30-7360-406E-9B40-4B36B987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n 1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87DF-11DB-48D4-9EFB-78C9F929EFD2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8956-DFF7-4018-A8C6-E0A3B1DC5494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rdenman@thetourismcompany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n 4" descr="logo_unwto_ppt.jpg"/>
          <p:cNvPicPr/>
          <p:nvPr/>
        </p:nvPicPr>
        <p:blipFill>
          <a:blip r:embed="rId1"/>
          <a:stretch/>
        </p:blipFill>
        <p:spPr>
          <a:xfrm>
            <a:off x="517680" y="0"/>
            <a:ext cx="987120" cy="1395360"/>
          </a:xfrm>
          <a:prstGeom prst="rect">
            <a:avLst/>
          </a:prstGeom>
          <a:ln w="0">
            <a:noFill/>
          </a:ln>
        </p:spPr>
      </p:pic>
      <p:sp>
        <p:nvSpPr>
          <p:cNvPr id="91" name="Conector recto 4"/>
          <p:cNvSpPr/>
          <p:nvPr/>
        </p:nvSpPr>
        <p:spPr>
          <a:xfrm>
            <a:off x="4089240" y="0"/>
            <a:ext cx="0" cy="6858000"/>
          </a:xfrm>
          <a:prstGeom prst="line">
            <a:avLst/>
          </a:prstGeom>
          <a:ln w="25560">
            <a:solidFill>
              <a:srgbClr val="c8c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onector recto 7"/>
          <p:cNvSpPr/>
          <p:nvPr/>
        </p:nvSpPr>
        <p:spPr>
          <a:xfrm flipH="1">
            <a:off x="517680" y="2540160"/>
            <a:ext cx="8626320" cy="0"/>
          </a:xfrm>
          <a:prstGeom prst="line">
            <a:avLst/>
          </a:prstGeom>
          <a:ln w="25560">
            <a:solidFill>
              <a:srgbClr val="c8c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onector recto 11"/>
          <p:cNvSpPr/>
          <p:nvPr/>
        </p:nvSpPr>
        <p:spPr>
          <a:xfrm>
            <a:off x="6654960" y="0"/>
            <a:ext cx="0" cy="2540160"/>
          </a:xfrm>
          <a:prstGeom prst="line">
            <a:avLst/>
          </a:prstGeom>
          <a:ln w="25560">
            <a:solidFill>
              <a:srgbClr val="c8c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ángulo 12"/>
          <p:cNvSpPr/>
          <p:nvPr/>
        </p:nvSpPr>
        <p:spPr>
          <a:xfrm>
            <a:off x="517680" y="2540160"/>
            <a:ext cx="3571560" cy="4317840"/>
          </a:xfrm>
          <a:prstGeom prst="rect">
            <a:avLst/>
          </a:prstGeom>
          <a:solidFill>
            <a:srgbClr val="c8c9e8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uadroTexto 3"/>
          <p:cNvSpPr/>
          <p:nvPr/>
        </p:nvSpPr>
        <p:spPr>
          <a:xfrm>
            <a:off x="552600" y="2784600"/>
            <a:ext cx="35528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Narrow Bold"/>
                <a:ea typeface="MS PGothic"/>
              </a:rPr>
              <a:t>REGIONAL COAST ST G&amp;M SEMINA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Narrow Bold"/>
                <a:ea typeface="MS PGothic"/>
              </a:rPr>
              <a:t>Ada, Ghan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Narrow Bold"/>
                <a:ea typeface="MS PGothic"/>
              </a:rPr>
              <a:t>October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14 CuadroTexto"/>
          <p:cNvSpPr/>
          <p:nvPr/>
        </p:nvSpPr>
        <p:spPr>
          <a:xfrm>
            <a:off x="4211640" y="2708280"/>
            <a:ext cx="4572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fluencing Coastal Tourism Development and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2"/>
          <a:stretch/>
        </p:blipFill>
        <p:spPr>
          <a:xfrm>
            <a:off x="1547640" y="476280"/>
            <a:ext cx="2416320" cy="1812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P7140478"/>
          <p:cNvPicPr/>
          <p:nvPr/>
        </p:nvPicPr>
        <p:blipFill>
          <a:blip r:embed="rId3"/>
          <a:stretch/>
        </p:blipFill>
        <p:spPr>
          <a:xfrm>
            <a:off x="4235400" y="468360"/>
            <a:ext cx="2336760" cy="1827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99" name="Content Placeholder 3" descr=""/>
          <p:cNvPicPr/>
          <p:nvPr/>
        </p:nvPicPr>
        <p:blipFill>
          <a:blip r:embed="rId4"/>
          <a:stretch/>
        </p:blipFill>
        <p:spPr>
          <a:xfrm>
            <a:off x="6726240" y="517680"/>
            <a:ext cx="2370240" cy="17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Influencing coastal tourism development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Exert influence on development through advice, assistance, incentives and agreement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vide positive approaches and mess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ncourage early dialog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ork with Investment Promotion Ag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sider targeted financial incen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concessions, agreements etc. where applic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Influencing operation of coastal tourism enterprises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22" name="Picture 5" descr="IMG_8794"/>
          <p:cNvPicPr/>
          <p:nvPr/>
        </p:nvPicPr>
        <p:blipFill>
          <a:blip r:embed="rId1"/>
          <a:stretch/>
        </p:blipFill>
        <p:spPr>
          <a:xfrm>
            <a:off x="1636560" y="1197000"/>
            <a:ext cx="6034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8283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Influencing operation of coastal tourism enterprises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Strengthen the reach and potency of inspection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spections by Environment Agencies, Tourist Authorities and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sources for inspection are stretch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portunities to coordinate proced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ublicise/promote results of inspe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onitor state of external environment as well as internal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8283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Influencing operation of coastal tourism enterprises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26" name="Picture 5" descr="IMG_8704"/>
          <p:cNvPicPr/>
          <p:nvPr/>
        </p:nvPicPr>
        <p:blipFill>
          <a:blip r:embed="rId1"/>
          <a:stretch/>
        </p:blipFill>
        <p:spPr>
          <a:xfrm>
            <a:off x="1636560" y="1197000"/>
            <a:ext cx="6034320" cy="45259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1476360" y="5877000"/>
            <a:ext cx="73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cean Bay Hotel, Cape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98283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Influencing operation of coastal tourism enterprises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Stimulate and assist improved environmental (sustainability) management by tourism enterpri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ork with representative bo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larify requirements – improv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vide and promote EMS trai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engthen voluntary repor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ncourage/support/promote certification sche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ncourage use of voluntary co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cognise economic sustainability 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ichard Denm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rdenman@thetourismcompany.com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Topics covered in this session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fluencing Coastal Tourism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fluencing the Operation of Coastal Tourism Enterpri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Influencing coastal tourism development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mportant links with the previous sess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urism Master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CZM process and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ocal destination management plan / tourism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and use planning – for coast and local desti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Influencing coastal tourism development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Strengthen effective application of EIAs for coastal tourism develop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niversal tool, used in all count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cern about effectiven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ed to focus 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larity and consistency on what needed for tour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ppropriate treatment of small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bjectivity and expert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rengthening local consul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ndertaking EIAs earlier in the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readth of content – Strategic Environmental Asse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onitoring and enforc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Influencing coastal tourism development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4932360" y="1197000"/>
            <a:ext cx="3181320" cy="4525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"/>
          <p:cNvPicPr/>
          <p:nvPr/>
        </p:nvPicPr>
        <p:blipFill>
          <a:blip r:embed="rId2"/>
          <a:stretch/>
        </p:blipFill>
        <p:spPr>
          <a:xfrm>
            <a:off x="984240" y="1197000"/>
            <a:ext cx="3149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Influencing coastal tourism development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Review and improve the process of handling and approving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ny steps needed to acquire lice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ong delays can lead to circumv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ed better + quicker scrutiny and deci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mportant to make basic requirements clearer at the outs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12" name="Picture 8" descr="DSCF0473"/>
          <p:cNvPicPr/>
          <p:nvPr/>
        </p:nvPicPr>
        <p:blipFill>
          <a:blip r:embed="rId1"/>
          <a:stretch/>
        </p:blipFill>
        <p:spPr>
          <a:xfrm>
            <a:off x="1636560" y="1197000"/>
            <a:ext cx="6034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Influencing coastal tourism development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Provide clear guidelines on coastal tourism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formation is a weakness and an opportu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 written guide would be helpful, to cov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ourism opportunities, reflecting any pl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eps to fol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gulations and requir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actical guidance on good practice – location, design, materials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lating to local commun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hould be used by all agencies handling coastal tourism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Influencing coastal tourism development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197000"/>
            <a:ext cx="740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961920" y="1197000"/>
            <a:ext cx="3192480" cy="4525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/>
          <p:cNvPicPr/>
          <p:nvPr/>
        </p:nvPicPr>
        <p:blipFill>
          <a:blip r:embed="rId2"/>
          <a:srcRect l="21662" t="28621" r="18197" b="15679"/>
          <a:stretch/>
        </p:blipFill>
        <p:spPr>
          <a:xfrm>
            <a:off x="5580000" y="1989000"/>
            <a:ext cx="216072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11:17:39Z</dcterms:created>
  <dc:creator>UNWTO</dc:creator>
  <dc:description/>
  <dc:language>en-US</dc:language>
  <cp:lastModifiedBy>Richard Denman</cp:lastModifiedBy>
  <cp:lastPrinted>2013-10-19T18:06:53Z</cp:lastPrinted>
  <dcterms:modified xsi:type="dcterms:W3CDTF">2013-10-19T18:09:14Z</dcterms:modified>
  <cp:revision>47</cp:revision>
  <dc:subject/>
  <dc:title>PowerPoint Presentation</dc:title>
</cp:coreProperties>
</file>