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31B-FD67-4E05-8568-921CAC0E04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F526-953D-4C15-9CE1-112DB1D5C0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0121-1770-4FED-82B0-87A7A9873A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D97D-7DC7-4B86-84B3-968EA6367B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CD55-CFB1-4B5C-990A-FD7FF599FCD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70A-226C-4470-AA92-A735CAFD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B60-A6D1-43B9-B296-C11410E7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585-CAE1-498A-BB6A-2461A8E3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A91-7E70-4960-9481-F8820286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8A92-3A50-40AF-B4C1-D527A115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F03F-5411-4373-8029-F1ED3124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2910-24E6-4A51-8928-C4BA7BD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8047-2994-4E94-97EA-4BA0744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412C-A2CF-4FDE-88D5-0AB5046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BDF0-FD56-4682-B142-2FCD0B26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B54F-CDD0-4D5C-87EA-34C3BD1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7B5-392C-4BFE-8524-69980791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36E-A35C-474B-B382-7541176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CA71-66B1-4212-B221-49A2D0B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ADA9-A0E6-41D8-8A9B-927C8246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AC3A-C891-4FE3-82A6-3618AE83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F98C-BC91-4176-A149-03DA287A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653-D997-488C-BEB6-C150C24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E8D-0D73-4B40-8B66-A9CD29FA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749-9B2F-4C38-807B-DA87F4D8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522-4104-4AA9-BA04-290C462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789-1AE4-4DDF-BBC3-1DA0CB2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250-D1C6-4C69-8DFE-B07E032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CBB-3B7E-4704-B8E8-E89843B9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B154-AB9B-4D98-8E73-3B1A9CCB014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2F2D-9D29-4A57-A002-2D54022CC78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Global perspecives on coastal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oastal tourism trend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higher quality facilities/ser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marine and coastal recreation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ore aware of environmental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cern for responsibl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interest in nature and 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portunities to combine coastal and other eperiences through itineraries and multi-centred of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all-inclusive holi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cruis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enefits of coastal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tional revenue generation and international recei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cal jobs and prospe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pport for infrastructure and community fac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aising awareness of the need for conser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unding investment in environment and he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viding alternative, more sustainable community livelih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Negative impacts and challenges  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hysical destruction and loss of ame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ss of habitat and biod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restrial and marine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source consumption and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imited community engagement and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perty development patt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asonality and sensitiv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Ledbury</cp:lastModifiedBy>
  <cp:lastPrinted>2013-10-19T18:19:27Z</cp:lastPrinted>
  <dcterms:modified xsi:type="dcterms:W3CDTF">2013-10-21T07:48:12Z</dcterms:modified>
  <cp:revision>51</cp:revision>
  <dc:subject/>
  <dc:title>PowerPoint Presentation</dc:title>
</cp:coreProperties>
</file>