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03360" y="900000"/>
            <a:ext cx="45655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89FF-46DC-4DC9-A110-4EE572250FF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0A28-1EC6-4507-8B47-9D2818DB2CF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50EB-4A14-4F06-882F-09054CB09A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05A8-D7FE-4952-8BF1-E8777F3C9D4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CEAC-8E2A-4AFD-9137-9EB4BBE14CE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CA4B-BF1B-41FD-B8EE-C319EF3A31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554D-FF29-45AF-BE72-1F8E3054DB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2818-93F9-430F-AF5A-3F8B215CD9C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6254-6C87-492B-8A94-FD058A7AD4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776D-46A3-42A1-B634-EF20BA6CBC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B9D6-B97C-4C2A-803A-95CF19A6B50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5E9B-A4C1-47DC-9404-5EC8B910EA1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D0A7-767C-47DB-8110-D1F512874DE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4A3D-440F-4F5D-A838-70B37704A73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5D80-F54F-4FD6-AAF4-FEF862D882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3C2F-8C8C-4FE7-ACC0-82930C48E0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635-75F9-4809-AD80-2044DBC4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881-F0EC-4085-95AC-24A04809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31D-32C0-49C5-B35B-321BB78E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B83-B062-4AD7-AE93-7DD3404F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6E5C-6009-440B-9F8B-B0AB2550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57F1-9C8F-43B2-B402-D40B7FA5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3EDA-D943-44D9-9041-7D977157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D1EE-9512-44B2-9DA7-4C3561DC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DC18-67D7-470A-916C-C56710F6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43F3-36FC-49B8-9DE6-DF2B913E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C42B-3F56-4466-A19E-0BE95D1F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B21-E2BF-4995-9AF7-DEEC7104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6662-045D-48DA-9EF5-46C472A2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E76A-686C-40B2-A163-78C243A9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540D-E18D-46C6-BE64-957C72E5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B869-6856-4ED9-87A6-FB630C78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2107-DD63-4D2A-904B-AEDC3928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D9E-59D0-4788-974E-7355724C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A67-8D14-46BD-A77F-37FAC18A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38D-3BFD-49F4-B1CB-CB9A9295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212-D4E9-410E-B778-C967C863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3F5-EA2F-4CC6-A594-CAE8CD7B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91B-7FD8-4F3A-B11E-FB7D58A0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CEA-627D-447A-B00A-F2C266CB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22BD-4222-4F9D-B3B7-D5A5C962CF9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3299-7FD8-4AD2-B4B1-B40D901F64B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Managing Coastal Environments linked to tou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MG_8635"/>
          <p:cNvPicPr/>
          <p:nvPr/>
        </p:nvPicPr>
        <p:blipFill>
          <a:blip r:embed="rId1"/>
          <a:stretch/>
        </p:blipFill>
        <p:spPr>
          <a:xfrm>
            <a:off x="826920" y="765000"/>
            <a:ext cx="747576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Generate resources from tourism to support conservation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income from admission and conc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businesses to support con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 gifting schemes aimed at tour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income from fines and pena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1" name="Picture 6" descr="IMG_0747"/>
          <p:cNvPicPr/>
          <p:nvPr/>
        </p:nvPicPr>
        <p:blipFill>
          <a:blip r:embed="rId1"/>
          <a:stretch/>
        </p:blipFill>
        <p:spPr>
          <a:xfrm>
            <a:off x="539640" y="549360"/>
            <a:ext cx="8209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3" name="Picture 9" descr="IMG_8933"/>
          <p:cNvPicPr/>
          <p:nvPr/>
        </p:nvPicPr>
        <p:blipFill>
          <a:blip r:embed="rId1"/>
          <a:stretch/>
        </p:blipFill>
        <p:spPr>
          <a:xfrm>
            <a:off x="684360" y="692280"/>
            <a:ext cx="7488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G_9039"/>
          <p:cNvPicPr/>
          <p:nvPr/>
        </p:nvPicPr>
        <p:blipFill>
          <a:blip r:embed="rId1"/>
          <a:stretch/>
        </p:blipFill>
        <p:spPr>
          <a:xfrm>
            <a:off x="826920" y="33336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Managing coastal environments linked to tourism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lier sections cover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vernance, policies,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luencing the impact of tourism developments and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 are now addressing some more direct activities for management of coastal enviro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is ab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ress the causes and consequences of environmental degradat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 a result of tourism;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other sources, which consequently damage the tourism as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B. Not a detailed treatment – this was an overall governance and management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3" name="Picture 8" descr="DSCF0207"/>
          <p:cNvPicPr/>
          <p:nvPr/>
        </p:nvPicPr>
        <p:blipFill>
          <a:blip r:embed="rId1"/>
          <a:stretch/>
        </p:blipFill>
        <p:spPr>
          <a:xfrm>
            <a:off x="5076720" y="3789360"/>
            <a:ext cx="313236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DSCF0843"/>
          <p:cNvPicPr/>
          <p:nvPr/>
        </p:nvPicPr>
        <p:blipFill>
          <a:blip r:embed="rId2"/>
          <a:stretch/>
        </p:blipFill>
        <p:spPr>
          <a:xfrm>
            <a:off x="4859280" y="620640"/>
            <a:ext cx="3600360" cy="252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9024"/>
          <p:cNvPicPr/>
          <p:nvPr/>
        </p:nvPicPr>
        <p:blipFill>
          <a:blip r:embed="rId3"/>
          <a:stretch/>
        </p:blipFill>
        <p:spPr>
          <a:xfrm>
            <a:off x="1042920" y="3789360"/>
            <a:ext cx="3313080" cy="2330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755640" y="1125360"/>
            <a:ext cx="360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i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stal 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Monitor environmental change and coordinate respon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itor the state of the environment using basic indicators and observ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clear lines of respon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together on joint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G_8606"/>
          <p:cNvPicPr/>
          <p:nvPr/>
        </p:nvPicPr>
        <p:blipFill>
          <a:blip r:embed="rId1"/>
          <a:stretch/>
        </p:blipFill>
        <p:spPr>
          <a:xfrm>
            <a:off x="900000" y="47628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IMG_8440"/>
          <p:cNvPicPr/>
          <p:nvPr/>
        </p:nvPicPr>
        <p:blipFill>
          <a:blip r:embed="rId1"/>
          <a:stretch/>
        </p:blipFill>
        <p:spPr>
          <a:xfrm>
            <a:off x="826920" y="54936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aise awareness and facilitate community engagement in conservation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tablish local management groups from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 education programm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local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ganise events – e.g. beach cle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gage tourism businesses as champ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G_9227"/>
          <p:cNvPicPr/>
          <p:nvPr/>
        </p:nvPicPr>
        <p:blipFill>
          <a:blip r:embed="rId1"/>
          <a:stretch/>
        </p:blipFill>
        <p:spPr>
          <a:xfrm>
            <a:off x="880920" y="11592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5" name="Picture 8" descr="Community_Radio_in_Ghana_001"/>
          <p:cNvPicPr/>
          <p:nvPr/>
        </p:nvPicPr>
        <p:blipFill>
          <a:blip r:embed="rId1"/>
          <a:stretch/>
        </p:blipFill>
        <p:spPr>
          <a:xfrm>
            <a:off x="755640" y="1052640"/>
            <a:ext cx="5545080" cy="36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image_preview-2"/>
          <p:cNvPicPr/>
          <p:nvPr/>
        </p:nvPicPr>
        <p:blipFill>
          <a:blip r:embed="rId2"/>
          <a:stretch/>
        </p:blipFill>
        <p:spPr>
          <a:xfrm>
            <a:off x="4788000" y="3284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cp:lastPrinted>2013-10-19T18:19:27Z</cp:lastPrinted>
  <dcterms:modified xsi:type="dcterms:W3CDTF">2013-10-19T18:22:58Z</dcterms:modified>
  <cp:revision>49</cp:revision>
  <dc:subject/>
  <dc:title>PowerPoint Presentation</dc:title>
</cp:coreProperties>
</file>