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1EC-4874-4D77-B2DA-81FD71B4FB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3833-F07D-424A-8B04-BE85778C800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9A8A-93AF-4862-8327-F538B890867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389-5050-44F6-B3A7-1AA0945E848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80DA-D1DD-4266-800C-F3B6B8C7F4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BC4B-5ACE-4A28-9ACD-905879F2F2A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AD0-FDFF-4121-B47D-DC076A5465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397-ED08-453A-8927-F931C893C6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7507-E7FD-4677-BC43-D127025866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E813-4C60-476A-9FEE-3C89ADA81C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1C7-5F81-44F7-A056-66BFF7BA09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AF7-1DC0-49D7-8292-44D54F77FE4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EDD-ACCB-42BE-9F40-7012C3AB8E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356-69A0-41A0-893F-DEBFBC17C0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FE93-6F86-4EA6-A2D3-BAD99DAE96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B03-689A-47F5-9CB5-B09109E83C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5CC-560E-4BE5-BC91-6E683ED2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28D-9869-4F27-8D80-A99F23A4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D60-ABDB-400C-91FE-1EBA288C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98E-0503-4280-BE59-4AC67E91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2343-636F-42CE-885A-1917271C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329-0CB0-4DB1-8579-CDC93A16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A5F7-D81A-415D-BD1D-939275C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44C5-503E-40A1-99C5-4F649BF4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D28C-24AE-41E3-B5A8-0DC3036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4AD9-E17E-456D-88D8-EEB7FF0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5EF-8878-4705-8765-004A461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B92-DD46-46C7-8A1D-8AA0F0C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53B-7684-4385-B761-4AC6CC1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91BD-9442-4F2E-BDE9-44F36A1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327D-1D02-4127-BC83-65736ED2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12D6-0985-4FA4-BE58-C51B7755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28BD-A753-40E4-93E9-5929B52F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3A5-3410-40A2-B8DF-81EF0521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ACC-B823-48BD-B544-BB437C2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DE1-082B-43DB-93DA-65CE891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070-815C-4A00-A8E9-98FF93F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F66-D55D-4342-9646-6D659C2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88C-C58C-4679-996D-AFEA83D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91A-2454-45CE-B203-9CE183A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02F-FBCE-4EBA-A1B0-6F76B7B2E88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1324-5380-4291-862E-AD72D2E6141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Managing Coastal Environments linked to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8635"/>
          <p:cNvPicPr/>
          <p:nvPr/>
        </p:nvPicPr>
        <p:blipFill>
          <a:blip r:embed="rId1"/>
          <a:stretch/>
        </p:blipFill>
        <p:spPr>
          <a:xfrm>
            <a:off x="826920" y="765000"/>
            <a:ext cx="74757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enerate resources from tourism to support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admission and conc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businesses to support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gifting schemes aimed at tour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fine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1" name="Picture 6" descr="IMG_0747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9" descr="IMG_8933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9039"/>
          <p:cNvPicPr/>
          <p:nvPr/>
        </p:nvPicPr>
        <p:blipFill>
          <a:blip r:embed="rId1"/>
          <a:stretch/>
        </p:blipFill>
        <p:spPr>
          <a:xfrm>
            <a:off x="826920" y="333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Managing coastal environments linked to tourism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lier sections cov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vernance, policies,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luencing the impact of tourism developments and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re now addressing some more direct activities for management of coastal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ress the causes and consequences of environmental degrada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result of tourism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other sources, which consequently damage the tourism as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Not a detailed treatment – this was an overall governance and management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3" name="Picture 8" descr="DSCF0207"/>
          <p:cNvPicPr/>
          <p:nvPr/>
        </p:nvPicPr>
        <p:blipFill>
          <a:blip r:embed="rId1"/>
          <a:stretch/>
        </p:blipFill>
        <p:spPr>
          <a:xfrm>
            <a:off x="5076720" y="3789360"/>
            <a:ext cx="31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DSCF0843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52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9024"/>
          <p:cNvPicPr/>
          <p:nvPr/>
        </p:nvPicPr>
        <p:blipFill>
          <a:blip r:embed="rId3"/>
          <a:stretch/>
        </p:blipFill>
        <p:spPr>
          <a:xfrm>
            <a:off x="1042920" y="3789360"/>
            <a:ext cx="3313080" cy="2330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55640" y="112536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a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Monitor environmental change and coordinate respon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the state of the environment using basic indicators and ob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lear lines of respon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together on join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8606"/>
          <p:cNvPicPr/>
          <p:nvPr/>
        </p:nvPicPr>
        <p:blipFill>
          <a:blip r:embed="rId1"/>
          <a:stretch/>
        </p:blipFill>
        <p:spPr>
          <a:xfrm>
            <a:off x="900000" y="47628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G_8440"/>
          <p:cNvPicPr/>
          <p:nvPr/>
        </p:nvPicPr>
        <p:blipFill>
          <a:blip r:embed="rId1"/>
          <a:stretch/>
        </p:blipFill>
        <p:spPr>
          <a:xfrm>
            <a:off x="826920" y="549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aise awareness and facilitate community engagement in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 local management groups from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 education programm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local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e events – e.g. beach cl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gage tourism businesses as 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_9227"/>
          <p:cNvPicPr/>
          <p:nvPr/>
        </p:nvPicPr>
        <p:blipFill>
          <a:blip r:embed="rId1"/>
          <a:stretch/>
        </p:blipFill>
        <p:spPr>
          <a:xfrm>
            <a:off x="880920" y="11592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5" name="Picture 8" descr="Community_Radio_in_Ghana_001"/>
          <p:cNvPicPr/>
          <p:nvPr/>
        </p:nvPicPr>
        <p:blipFill>
          <a:blip r:embed="rId1"/>
          <a:stretch/>
        </p:blipFill>
        <p:spPr>
          <a:xfrm>
            <a:off x="755640" y="105264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age_preview-2"/>
          <p:cNvPicPr/>
          <p:nvPr/>
        </p:nvPicPr>
        <p:blipFill>
          <a:blip r:embed="rId2"/>
          <a:stretch/>
        </p:blipFill>
        <p:spPr>
          <a:xfrm>
            <a:off x="478800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19:27Z</cp:lastPrinted>
  <dcterms:modified xsi:type="dcterms:W3CDTF">2013-10-19T18:22:58Z</dcterms:modified>
  <cp:revision>49</cp:revision>
  <dc:subject/>
  <dc:title>PowerPoint Presentation</dc:title>
</cp:coreProperties>
</file>